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896-7BA3-4E43-9AB6-269F85F4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5D8-AC93-4B71-ACDA-AF8291C9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2FE-2158-4B60-961E-2140576F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294-8D28-49F2-8E90-764F5069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A15-9877-47B1-9120-23906DE7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801-8E41-4927-8C82-060C4092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1DF-5C5D-4649-849E-AF7C43D4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3E7-6CDB-45DC-A3CB-145FE013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6D4-39D4-4192-B8F3-7C209C40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0FB-3DC9-42C4-8D14-4384C77D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822-5D75-45EC-8B74-2FA796A4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E37-BC9D-40D1-A6E5-1E4395A3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8B24-4475-431D-BBBF-4F6E334E8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Session #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N 13: Differentiated Instructional Strategies for the Block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ne Hub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 Sing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e Strong Vin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9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c Stri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hree other pieces to your car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sorts have you done in your classroom content ar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Q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assigned reading to prepare for small-group discus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SQC2 template as your notemaking de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Do the Ma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tty Squirr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cy in the Scienc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rning Wheel BDA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-Search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et out the 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entence, One Phrase, On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7:16:21Z</dcterms:created>
  <dc:creator>Ken</dc:creator>
  <dc:description/>
  <dc:language>en-US</dc:language>
  <cp:lastModifiedBy>Ken</cp:lastModifiedBy>
  <dcterms:modified xsi:type="dcterms:W3CDTF">2013-11-06T20:34:00Z</dcterms:modified>
  <cp:revision>3</cp:revision>
  <dc:subject/>
  <dc:title>Welcome to Session #3 PLN 13</dc:title>
</cp:coreProperties>
</file>