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C05C-CE9E-471D-A1BF-7EA79C18C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28CE-9C45-47D1-9F93-61F1871A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D977-9CF7-47BF-BDE4-6FBC72D42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261B-06EE-486B-A805-E072032F0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0976-2B91-404C-BA91-A3B2473E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9036-8650-4791-B811-2A213664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A873-8100-413A-A64B-5E26D3C5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40A8-3981-4C80-ABFB-C9628B70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A1A4-4605-4F2F-BF26-C74A15C8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1270-6607-465C-A40E-FA9FA6A8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8FFC-BE14-4FC4-AA6A-29E10C11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A6DB-FB6B-4C51-9739-20153F87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8BC3-3DEE-4E44-8B22-AE6445289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ome to Session #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N 13: Differentiated Instructional Strategies for the Block Sched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ne Hub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 Sing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ie Strong Vinc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ember 9,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ic Strip 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three other pieces to your cart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torm with your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 of sorts have you done in your classroom content are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SQC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he assigned reading to prepare for small-group discuss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RSQC2 template as your notemaking de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Do the Math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tty Squirre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teracy in the Science Class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urning Wheel BDA Les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-Search Pa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cket out the D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Sentence, One Phrase, One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17:16:21Z</dcterms:created>
  <dc:creator>Ken</dc:creator>
  <dc:description/>
  <dc:language>en-US</dc:language>
  <cp:lastModifiedBy>Ken</cp:lastModifiedBy>
  <dcterms:modified xsi:type="dcterms:W3CDTF">2013-11-06T20:34:00Z</dcterms:modified>
  <cp:revision>3</cp:revision>
  <dc:subject/>
  <dc:title>Welcome to Session #3 PLN 13</dc:title>
</cp:coreProperties>
</file>