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CCA2-9C14-4212-A86D-86C69410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294E-4FCB-4A14-B3C9-E3698F1AAAFB}" type="slidenum">
              <a:rPr b="0" lang="en-US" sz="1200" spc="-1" strike="noStrike">
                <a:solidFill>
                  <a:srgbClr val="2e2b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7D63-F02D-4706-B9BC-8464C732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EAA-47AB-43B7-8510-78DAACE5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B99-2943-4740-BD33-282146DD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2A1-CAA1-498D-8E6C-527D5758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252-9B2F-44BF-9186-5D11ED9A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E4CE-FC8B-48A2-A88B-94D0B66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1305-F945-4049-80A8-201C17F0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765-FEB1-443F-AD07-C54A841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0DDE-AB0D-4A03-8211-F21C3093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6FB9-A685-4221-9F6F-BFB6395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97FB-C807-42D2-BF52-36551888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120-5336-4344-B077-9BE74081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4786-2596-4F95-81FA-F5113A6E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02C2-379D-42CC-A54A-8763EBC9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398B-F9A9-4D58-83C4-38DB06CC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071E-A33C-418E-84C6-C0ABF83D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3DA-0028-4960-927B-3042DAE7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11E3-A627-4792-850F-31C5469D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DBCC-D675-4DCD-B665-2F33606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9902-D7FF-4F15-9737-B546102E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6758-5CC2-427C-868E-6EDEDDAA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BAF1-5BF5-4578-B4F0-1BFBF0E4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C66-CB9A-474D-A25A-6B18EE2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8703-D9A5-422F-AAB2-05E1C0D3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0CF5-34F4-4A2F-A96D-6670DDF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E3A32-0EA7-4088-8DE3-9D2DF189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5157-E996-418D-A0B5-CDEC7193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B532-0EBD-4DA1-9D1C-32CB0298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923C-6A07-4EC9-B641-CEAA82F2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B303-2B38-4519-A63F-B73CFEF5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F278-9216-43B2-A3F6-5193B8AE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C7A26-7D88-491C-A4C3-3322FA82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62D1-43FE-485B-926F-AA7B0B8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6FC-C6FC-4A76-853E-F8609EA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7D32-965C-4024-809E-17739C0B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61034-E983-464E-977F-4B7B941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52DA-856A-40BC-8C85-F83B583F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E223-783C-41C2-BC5E-8FB7B8A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1A01-C573-403C-BF8B-D1C42F5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5C52-FB3E-459F-A880-1B1D322F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DCA4-B510-46BE-A3FD-48F9614A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7DF6C-C2B4-4F8E-9599-CBB6E547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BA31-FBC7-4BA3-BFAB-7FC73B99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473B7-8A8A-49E9-83EC-4199CB0C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85F-BF73-4F1F-819E-6E7BBCA1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FE7F-8952-4AE2-A57E-B4930DFD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C1FE-40A0-446D-B24A-FDD499C8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F671-8185-4545-905F-4D598DE4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FE6C-4912-4A06-A416-06998778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FBDF-F1C4-4BC8-961C-9CA20F48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666D-596D-49D8-97B8-BEE6E5D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B1BF-4E67-4365-9F1D-4C270822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22B5-0733-4F3B-8E77-75C9C2D0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B88B-7B41-418F-90CF-7B0C30DA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FA50-1DE9-4F26-939D-1857EB42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684-5F63-4539-A3FA-B2575497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E8B6-CB2B-49B7-92E7-8597B95B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61919-1B2A-46A6-86AC-8891C871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8868C-0EEE-46BC-8707-DCA6463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5EF3-1E9A-4FE1-8030-7C64CCCA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29D92-6C5E-4180-AD85-F50B062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AACBF-59E5-4486-9F15-096A5C8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C7BE-767A-4B97-BA5F-26C868E3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A7B4-0EDA-492B-BEC3-F4B66F41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7450-F00D-48D1-BFEF-72B958D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97668-A153-4583-86A4-89EB36C0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65B-0AEE-4C9B-A5C7-FF2B5419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009B-EA2B-4825-8446-8018B345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76CB7-78F0-4C61-9418-67465032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CC16-6A07-4992-8CB3-FD1AD89B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ACA-BEAE-4B3B-B927-F69EFC6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C39-272A-4869-A9E7-2D8E8F3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090-8839-4D1F-8ADA-A482A1A20484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116-E95F-4354-B195-E0A959A3BB0D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d2cb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d2c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AD1-DF86-4406-8B10-29872CB3F76B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487-4A46-4B1F-827F-F5126BD0CB7E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5127-9229-4FEC-B6AC-FB419ABF708D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e2b21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b2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74233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5E37-D0AC-48B8-ACAC-16445B22F782}" type="slidenum">
              <a:rPr b="0" lang="en-US" sz="1000" spc="-1" strike="noStrike">
                <a:solidFill>
                  <a:srgbClr val="474233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WELCOME TO SESSION #3</a:t>
            </a:r>
            <a:br>
              <a:rPr sz="4000"/>
            </a:b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PLN 13: DIFFERENTIATED INSTRUCTIONAL STRATEGIES FOR THE BLOCK SCHEDULE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1430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Diane Hubona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Chris Singler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Erie Strong Vincent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474233"/>
                </a:solidFill>
                <a:latin typeface="Tw Cen MT"/>
              </a:rPr>
              <a:t>November 9, 2013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ALWAYS CONNECTED TO PRIOR KNOWLEDG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rite a paragraph of at least five lines detailing what you know about your topic – some background or experience you’ve had.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SOCIAL –RESEARCH IS NOT DONE IN ISOLATION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5000"/>
          </a:bodyPr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Choose a research partner and share what you have written so far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eel free to elaborate on your written response and add to it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76680" indent="-76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s a partner, ask questions to help understand the topic completely.  Feel free to offer information and advice to help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2016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INQUIRY – ASKING </a:t>
            </a:r>
            <a:br>
              <a:rPr sz="4400"/>
            </a:b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QUESTIONS OF IMPORTANCE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2084040"/>
            <a:ext cx="8077320" cy="449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100" spc="-1" strike="noStrike">
                <a:solidFill>
                  <a:srgbClr val="2e2b21"/>
                </a:solidFill>
                <a:latin typeface="Tw Cen MT"/>
              </a:rPr>
              <a:t>Working with your partner, brainstorm a minimum of three questions important to your topic – what do you need to know?</a:t>
            </a:r>
            <a:endParaRPr b="0" lang="en-US" sz="2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2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4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100" spc="-1" strike="noStrike">
                <a:solidFill>
                  <a:srgbClr val="2e2b21"/>
                </a:solidFill>
                <a:latin typeface="Tw Cen MT"/>
              </a:rPr>
              <a:t>5.</a:t>
            </a:r>
            <a:endParaRPr b="0" lang="en-US" sz="11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IS REFLECTIVE – TIME TO THINK, PLAN, AND ACT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980720"/>
            <a:ext cx="8153280" cy="43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Congratulations – you’ve developed a strategic plan!  What do you do next?  First?  Most important?  Need to contact someone? Head to the library? Jump on a laptop? What are your timelines? Can you group your questions to save time in your search?  List your steps here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1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2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1900" spc="-1" strike="noStrike">
                <a:solidFill>
                  <a:srgbClr val="2e2b21"/>
                </a:solidFill>
                <a:latin typeface="Tw Cen MT"/>
              </a:rPr>
              <a:t>3.</a:t>
            </a:r>
            <a:endParaRPr b="0" lang="en-US" sz="19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365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SHOULD BE CONTENT-CONNECTED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students want to know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marL="89280" indent="-892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What do they </a:t>
            </a:r>
            <a:r>
              <a:rPr b="1" lang="en-US" sz="2200" spc="-1" strike="noStrike">
                <a:solidFill>
                  <a:srgbClr val="2e2b21"/>
                </a:solidFill>
                <a:latin typeface="Tw Cen MT"/>
              </a:rPr>
              <a:t>choose</a:t>
            </a:r>
            <a:r>
              <a:rPr b="0" lang="en-US" sz="2200" spc="-1" strike="noStrike">
                <a:solidFill>
                  <a:srgbClr val="2e2b21"/>
                </a:solidFill>
                <a:latin typeface="Tw Cen MT"/>
              </a:rPr>
              <a:t> to explore?</a:t>
            </a:r>
            <a:endParaRPr b="0" lang="en-US" sz="22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cienc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social studi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ma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world language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health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vocational classes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  <a:p>
            <a:pPr lvl="2" marL="443160" indent="-13536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2e2b21"/>
                </a:solidFill>
                <a:latin typeface="Tw Cen MT"/>
              </a:rPr>
              <a:t>In any content?</a:t>
            </a:r>
            <a:endParaRPr b="0" lang="en-US" sz="17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REQUIRES AND HELPS TO REFINE AN AUTHENTIC SKILL SE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To be successful, students need to learn and practice important learning skills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Formulating question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dentifying resource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ading informational text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Organizing ideas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otemak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tribut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Summar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Evaluating, Analyzing, Synthesizing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flecting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Inquiry requires that we dig beneath the surface to explore a topic, dwell in it, wander about it, and find out information. This deeper understanding is directly related to long-term memory.”  (Harvey ‘98)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Research clearly makes the connection to improved engagement, motivation, and writing skills when students participate</a:t>
            </a: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 regularly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 in inquiry-based learning activities.” (Postman &amp; Weingartner ‘06)  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ILL I-SEARCH IMPACT STUDENT LEARNING AND ACHIEVEMENT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4000"/>
          </a:bodyPr>
          <a:p>
            <a:pPr marL="84600" indent="-84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2e2b21"/>
                </a:solidFill>
                <a:latin typeface="Tw Cen MT"/>
              </a:rPr>
              <a:t>The Research (cont.):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At the HS level, inquiry and authentic research are required staples of the highest achieving nations in literacy, science and mathematics (New Zealand, Japan, etc.) and is identified as a contributing factor in successful reform efforts across the US (TIMMS, Int’l Literacy Assess., HSTW)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AEP has identified research as both an academic and a life skill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lvl="2" marL="420840" indent="-128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NCTE, NSF, NCTM, NCSS all identify a wide divide between research practices in classrooms vs. recommended practices.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3600" spc="-1" strike="noStrike">
                <a:solidFill>
                  <a:srgbClr val="474233"/>
                </a:solidFill>
                <a:latin typeface="Tw Cen MT Condensed"/>
              </a:rPr>
              <a:t>WHAT ARE THE RECOMMENDED PRACTICES?</a:t>
            </a:r>
            <a:endParaRPr b="0" lang="en-US" sz="36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8240" y="1752480"/>
            <a:ext cx="729000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lvl="1" marL="251640" indent="-129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Instruction and assignments related to research should begin no later than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_____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Students should participate in approximately _________research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projects each year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Research should be a staple in ______________classroom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ormat or presentation should count for no more than _______% of a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tudent’s research grade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*  Frequency is more important than ________________in build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             </a:t>
            </a: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successful research practices.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 </a:t>
            </a: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: A TIME TO REFLEC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do you see as most valuable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ith whom should you share this information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What more would you like to know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8240" y="25200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COMIC STRIP SORT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8240" y="1752480"/>
            <a:ext cx="6927840" cy="455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3000"/>
          </a:bodyPr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Find the three other pieces to your cartoon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Brainstorm with your group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type of sorts have you done in your classroom content area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What lenses of learning do sorting activities support</a:t>
            </a:r>
            <a:r>
              <a:rPr b="0" lang="en-US" sz="2000" spc="-1" strike="noStrike">
                <a:solidFill>
                  <a:srgbClr val="2e2b21"/>
                </a:solidFill>
                <a:latin typeface="Tw Cen MT"/>
              </a:rPr>
              <a:t>?</a:t>
            </a: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83880" indent="-838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6792840" y="2206800"/>
            <a:ext cx="180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WHAT HELPS BUILD SUCCESSFUL I-SEARCH EXPERIENCE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400" spc="-1" strike="noStrike">
                <a:solidFill>
                  <a:srgbClr val="2e2b21"/>
                </a:solidFill>
                <a:latin typeface="Tw Cen MT"/>
              </a:rPr>
              <a:t>I-Search is best when it…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Builds on existing knowledg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Connects content with interest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choice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partnership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ncourages a variety of resour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Explores multiple methods of reporting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Requires reflection on finding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2e2b21"/>
                </a:solidFill>
                <a:latin typeface="Tw Cen MT"/>
              </a:rPr>
              <a:t>Shares results with real-world audiences</a:t>
            </a: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lvl="2" marL="438840" indent="-13392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474233"/>
                </a:solidFill>
                <a:latin typeface="Tw Cen MT Condensed"/>
              </a:rPr>
              <a:t>LET’S DO THE MATH!</a:t>
            </a:r>
            <a:endParaRPr b="0" lang="en-US" sz="5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Strategies That Support Math Literacy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Math BDA 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4495680" y="3359160"/>
            <a:ext cx="2847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ASSESSMENTS…WHAT TEACHERS NEED TO K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2e2b21"/>
                </a:solidFill>
                <a:latin typeface="Tw Cen MT"/>
              </a:rPr>
              <a:t>Formative vs. Summative Assessment</a:t>
            </a:r>
            <a:endParaRPr b="0" lang="en-US" sz="4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FINAL PROJECT WORK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2e2b21"/>
                </a:solidFill>
                <a:latin typeface="Tw Cen MT"/>
              </a:rPr>
              <a:t>BDA Lesson Plan Constructive Playtime</a:t>
            </a:r>
            <a:endParaRPr b="0" lang="en-US" sz="4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NEXT STEPS??????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4000"/>
          </a:bodyPr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or December 7, 2013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Read Chapters 10, 11, 12 in Differentiated Instructional Strategies for the Block Schedule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Final lessons for sharing out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2e2b21"/>
                </a:solidFill>
                <a:latin typeface="Tw Cen MT"/>
              </a:rPr>
              <a:t>See you in December</a:t>
            </a:r>
            <a:r>
              <a:rPr b="0" lang="en-US" sz="3100" spc="-1" strike="noStrike">
                <a:solidFill>
                  <a:srgbClr val="2e2b21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  <a:p>
            <a:pPr marL="75600" indent="-756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5562720" y="990720"/>
            <a:ext cx="15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2680" y="420480"/>
            <a:ext cx="7289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TICKET OUT THE DOOR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8240" y="20923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2e2b21"/>
                </a:solidFill>
                <a:latin typeface="Tw Cen MT"/>
              </a:rPr>
              <a:t>One Sentence, One Phrase, One Word</a:t>
            </a:r>
            <a:endParaRPr b="0" lang="en-US" sz="54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3733920" y="4508640"/>
            <a:ext cx="1751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QUINN’S SIX QUESTIONS FOR LESSON DESIG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1. What am I teaching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2. Why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3. How am I teach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4. Why am I teaching it that way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5. How do I know my kids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2e2b21"/>
                </a:solidFill>
                <a:latin typeface="Tw Cen MT"/>
              </a:rPr>
              <a:t>6. How do the kids know they are getting it?</a:t>
            </a:r>
            <a:endParaRPr b="0" lang="en-US" sz="28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2109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0"/>
            <a:ext cx="7290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474233"/>
                </a:solidFill>
                <a:latin typeface="Tw Cen MT Condensed"/>
              </a:rPr>
              <a:t>RSQC2: DISCUSSION PROTOCOL FOR ALL CONTENT AREAS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Review the assigned reading from the Differentiated Instruction book to prepare for small-group discussions. 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Complete the RSQC2 template as your notemaking device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2e2b21"/>
                </a:solidFill>
                <a:latin typeface="Tw Cen MT"/>
              </a:rPr>
              <a:t>Discuss the assigned reading in your comic strip groups.</a:t>
            </a:r>
            <a:endParaRPr b="0" lang="en-US" sz="30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4114800" y="1025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474233"/>
                </a:solidFill>
                <a:latin typeface="Tw Cen MT Condensed"/>
              </a:rPr>
              <a:t>LITERACY IN THE SCIENCE CLASSROOM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DA Lesson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Before: Vocabulary Activity---I Know, I Think I Know, I’m Clueless!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During: Text rendering with determining importance—V.I.P.’s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2e2b21"/>
                </a:solidFill>
                <a:latin typeface="Tw Cen MT"/>
              </a:rPr>
              <a:t>After: Summarization Writing—Found Poetry</a:t>
            </a: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2e2b21"/>
              </a:solidFill>
              <a:latin typeface="Tw Cen MT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010280" y="585720"/>
            <a:ext cx="181296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4000" spc="-1" strike="noStrike">
                <a:solidFill>
                  <a:srgbClr val="474233"/>
                </a:solidFill>
                <a:latin typeface="Tw Cen MT Condensed"/>
              </a:rPr>
              <a:t>I-SEARCH</a:t>
            </a:r>
            <a:r>
              <a:rPr b="0" i="1" lang="en-US" sz="4000" spc="-1" strike="noStrike">
                <a:solidFill>
                  <a:srgbClr val="474233"/>
                </a:solidFill>
                <a:latin typeface="Tw Cen MT Condensed"/>
              </a:rPr>
              <a:t>: AUTHENTIC INQUIRY FOR ALL CONTENT AREAS</a:t>
            </a:r>
            <a:endParaRPr b="0" lang="en-US" sz="40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47423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1224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PLEASE DO NOW!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176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What comes to mind when you hear the following: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Inquiry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Research Paper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9cbebd"/>
              </a:buClr>
              <a:buFont typeface="Wingdings 3" charset="2"/>
              <a:buChar char="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2e2b21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2016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BEGINS WITH A PERSONAL CONNECTION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20840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Think of what’s important in your life right now.  Personally or professionally, what would you like to know more about, plan or do?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  <a:p>
            <a:pPr marL="88200" indent="-8820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2e2b21"/>
                </a:solidFill>
                <a:latin typeface="Tw Cen MT"/>
              </a:rPr>
              <a:t>Share your ideas with some neighbors and choose one.</a:t>
            </a:r>
            <a:endParaRPr b="0" lang="en-US" sz="24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400" spc="-1" strike="noStrike">
                <a:solidFill>
                  <a:srgbClr val="474233"/>
                </a:solidFill>
                <a:latin typeface="Tw Cen MT Condensed"/>
              </a:rPr>
              <a:t>I-SEARCH NEEDS TO BE IMPORTANT  TO YOU </a:t>
            </a:r>
            <a:endParaRPr b="0" lang="en-US" sz="4400" spc="-1" strike="noStrike">
              <a:solidFill>
                <a:srgbClr val="474233"/>
              </a:solidFill>
              <a:latin typeface="Tw Cen MT Condensed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cbebd"/>
              </a:buClr>
              <a:buFont typeface="Tw Cen MT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e2b21"/>
                </a:solidFill>
                <a:latin typeface="Tw Cen MT"/>
              </a:rPr>
              <a:t>Introduce your chosen topic and write a paragraph of at least five lines explaining why it’s important to you.</a:t>
            </a:r>
            <a:endParaRPr b="0" lang="en-US" sz="3200" spc="-1" strike="noStrike">
              <a:solidFill>
                <a:srgbClr val="2e2b21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7:16:21Z</dcterms:created>
  <dc:creator>Ken</dc:creator>
  <dc:description/>
  <dc:language>en-US</dc:language>
  <cp:lastModifiedBy>Ken</cp:lastModifiedBy>
  <dcterms:modified xsi:type="dcterms:W3CDTF">2013-11-08T18:38:19Z</dcterms:modified>
  <cp:revision>8</cp:revision>
  <dc:subject/>
  <dc:title>Welcome to Session #3 PLN 13</dc:title>
</cp:coreProperties>
</file>