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9EE-19F4-4D08-A679-AAB8F7C8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512-737A-4E30-A39A-B22BA9EB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792-E972-4822-9648-B4A9DA5A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108-F949-43B9-99B0-3266E446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F8B3-FF93-41A8-A5EF-6A7F05C7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5EF-4CB2-4CF4-97DA-FF3766A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F592-D306-4CE3-8597-8BC6D237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6799-B703-4F1A-9A38-93AEE6D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DAE1-1D10-40FC-9206-6ABEFF9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430-BEDD-441D-90FE-AEF779A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5F1-6576-423A-B7E4-A30CEF3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854-79FB-43E5-B572-40F8F21C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0519-B992-427E-A44B-3E00824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922-1011-4C28-96F8-3153298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2E3D-F532-4C77-B962-BF8099A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1256-0932-4B24-8AF6-5FF8358D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241-CA1C-4ADD-9956-675F5AF7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6D46-30F8-40EA-AAAA-F14C8DDF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12AF-1B39-4587-BC5C-77FAB32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48F8-25BF-475E-8C63-E6B48AE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C2F2-A452-44BA-9568-4EA56287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85BD-A9AF-4730-9B2F-0A35818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C8E-91DD-4FCC-8BE8-830C0C5C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313A-D920-46BF-BE9C-2A9F3952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E3A9-9A4C-4299-803E-25D0BDD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DAAB-D468-4A6A-A589-8FABA80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9D10-0049-4DCE-A185-B948080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4F39-6913-457E-8597-829832E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B3D8-74FC-491C-9EF7-912BDE14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12DC-6E27-426A-BC18-5CDBEA9C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9F71-3AD1-4938-9707-18189E02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AED1-A2CA-4426-8880-43D195E6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586A-FDD9-43C8-A7C6-F8235650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78D-1D40-417C-A210-9E7E5F8A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3E30-AF7D-4040-97D5-2F9431C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FB4B-F882-4ECB-8B70-38B7802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3CA0-EBF9-45BA-ABF7-77DC55B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D0CA-81EA-48A9-9C01-88EF780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C7B3-ED30-49AD-90E3-084E8D6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3279-596C-4E04-A32D-99D5A65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4B1B-FE16-4956-99D3-600F7961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E375-4FA6-4F9B-A78D-B501D8B0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5F00-35F5-4417-A675-52245324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DD4-5EC3-4895-BA89-03CAC29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260-9AE2-471D-BEEB-21130FF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CB3-722E-4BDE-86B1-6D3832C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4DB-D3A9-463E-950F-2FFFCE5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9D7-5C82-4FF5-9F91-AA4A2A5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67C-33B5-479F-8AA1-93FFC3E9F7F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E83-4FE7-4BD1-A5D5-5CF71274C20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83EE-F368-4563-B5F0-27D0D7F3008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868-E4B1-4F79-9E33-9A9A2EF96E3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erentiated Instruction for Teaching in the Block Schedu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ane Hubon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ris Sing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rie Strong Vinc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ssion #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cember 7, 20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now Make-up Day: January 25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Project Carousel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Trebuchet MS"/>
              </a:rPr>
              <a:t>Inside/Outside Circle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13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Evaluation For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o-facilitators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iane Hubo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hris Singl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PLN 13—Erie Strong Vince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od For Thought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90360"/>
            <a:ext cx="650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we need is a shift from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contr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in learning to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assuranc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 Traditional approaches to instruction and assessment involve teaching some given material, and then, at the end of teaching, working out who has and hasn't learned it—akin to a quality control approach in manufacturing. In contrast, assessment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learning involves adjusting teaching as needed while the learning is still taking place—a quality assurance approach. Quality assurance also involves a shift of attention from teaching to learning. The emphasis is on what the students are getting out of the process rather than on what teachers are putting into i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-Dylan Wilia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5" descr="PIIC_Logo_tag"/>
          <p:cNvPicPr/>
          <p:nvPr/>
        </p:nvPicPr>
        <p:blipFill>
          <a:blip r:embed="rId1"/>
          <a:stretch/>
        </p:blipFill>
        <p:spPr>
          <a:xfrm>
            <a:off x="7391520" y="5813280"/>
            <a:ext cx="914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llins 10% Summar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ighlight 10 words in the Wiliam quote that impact your role as teacher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MC900389286[1]"/>
          <p:cNvPicPr/>
          <p:nvPr/>
        </p:nvPicPr>
        <p:blipFill>
          <a:blip r:embed="rId1"/>
          <a:stretch/>
        </p:blipFill>
        <p:spPr>
          <a:xfrm>
            <a:off x="6434280" y="3505320"/>
            <a:ext cx="273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lease Do Now: Assessment Match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5" descr="j0439533"/>
          <p:cNvPicPr/>
          <p:nvPr/>
        </p:nvPicPr>
        <p:blipFill>
          <a:blip r:embed="rId1"/>
          <a:stretch/>
        </p:blipFill>
        <p:spPr>
          <a:xfrm>
            <a:off x="1600200" y="1884240"/>
            <a:ext cx="6172200" cy="410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IC_Logo_tag"/>
          <p:cNvPicPr/>
          <p:nvPr/>
        </p:nvPicPr>
        <p:blipFill>
          <a:blip r:embed="rId2"/>
          <a:stretch/>
        </p:blipFill>
        <p:spPr>
          <a:xfrm>
            <a:off x="7696080" y="5616720"/>
            <a:ext cx="123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rmative Assessm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king the Pulse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nowledge rat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nder Constru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i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MC900366618[1]"/>
          <p:cNvPicPr/>
          <p:nvPr/>
        </p:nvPicPr>
        <p:blipFill>
          <a:blip r:embed="rId1"/>
          <a:stretch/>
        </p:blipFill>
        <p:spPr>
          <a:xfrm>
            <a:off x="5638680" y="1371600"/>
            <a:ext cx="132264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IC_Logo_tag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ext Rend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rmative Assessment Artic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3 V.I.P.’s   very important poi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ble Talk   reach a group consens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1 M.V.P.   Most valuable poi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ase for Formative Assessment: Assessment for Lear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6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deo Clip—Dylan Wili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 Ch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 Hear/ What I Thin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6" descr="PIIC_Logo_tag"/>
          <p:cNvPicPr/>
          <p:nvPr/>
        </p:nvPicPr>
        <p:blipFill>
          <a:blip r:embed="rId1"/>
          <a:stretch/>
        </p:blipFill>
        <p:spPr>
          <a:xfrm>
            <a:off x="6248520" y="4343400"/>
            <a:ext cx="2017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ake Te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ot-a-Thoug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iscuss one thought you have concerning formative assessment as it relates to the video cli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ke ten steps to someone you do not know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ir/Share Partners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PIIC_Logo_tag"/>
          <p:cNvPicPr/>
          <p:nvPr/>
        </p:nvPicPr>
        <p:blipFill>
          <a:blip r:embed="rId1"/>
          <a:stretch/>
        </p:blipFill>
        <p:spPr>
          <a:xfrm>
            <a:off x="7543800" y="5692680"/>
            <a:ext cx="108576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M900284097[1]"/>
          <p:cNvPicPr/>
          <p:nvPr/>
        </p:nvPicPr>
        <p:blipFill>
          <a:blip r:embed="rId2"/>
          <a:stretch/>
        </p:blipFill>
        <p:spPr>
          <a:xfrm>
            <a:off x="7238880" y="533520"/>
            <a:ext cx="542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Instructional Strategies Sorting Ac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 light/yellow light/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4" descr="MC900433882[1]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IC_Logo_tag"/>
          <p:cNvPicPr/>
          <p:nvPr/>
        </p:nvPicPr>
        <p:blipFill>
          <a:blip r:embed="rId2"/>
          <a:stretch/>
        </p:blipFill>
        <p:spPr>
          <a:xfrm>
            <a:off x="7162920" y="5376960"/>
            <a:ext cx="1255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0:07:28Z</dcterms:created>
  <dc:creator>Ken</dc:creator>
  <dc:description/>
  <dc:language>en-US</dc:language>
  <cp:lastModifiedBy>Ken</cp:lastModifiedBy>
  <dcterms:modified xsi:type="dcterms:W3CDTF">2014-01-24T01:33:14Z</dcterms:modified>
  <cp:revision>10</cp:revision>
  <dc:subject/>
  <dc:title>Differentiated Instructional for Teaching in the Block Schedule</dc:title>
</cp:coreProperties>
</file>