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wmf" ContentType="image/x-wmf"/>
  <Override PartName="/ppt/media/image4.wmf" ContentType="image/x-wmf"/>
  <Override PartName="/ppt/media/image5.gif" ContentType="image/gif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12A4A-F88A-4AC8-9648-8FE541E33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ECA15-25F5-4F85-A37E-5906F92E0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C7A85-685B-4B2F-9007-799C31B9F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75FC5-07D2-4E80-82C8-74FF99A7A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830EE-7712-48A2-B4C1-C558BBF6F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14116-8F29-4CA9-9C2C-5620FA929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B39D9-81FA-4B78-8611-5F560F649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6D890-2A38-4F48-B83D-AF063E73A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635A2-A917-4841-B746-C3EDAC37F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B4F66-F9E8-4546-8270-12802CAAE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A0927-4C7B-415F-BAB3-3B2050EB7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3278C-029B-459A-B42D-EC52C86C3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E751A-FFC7-4A9E-AA8A-67D808D57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8A9BC-7038-4F46-A79A-831367E36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A63AC-E1AF-433E-BE4C-5F469D360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4F98F-E559-4347-AF90-651DCAE90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604F8-1F0A-44F4-96AA-DB69C2435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F3881C-52D8-4146-88C9-4C29A7D91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2784EE-14C7-4751-87FC-8AFF1437B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8171E7-8741-45E2-B964-7ED56EE34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14D256-B048-4C5B-9F85-1627230DA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9A7BFF-97A8-4A9B-AACA-5F4D62FC9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ADCB0-7C7C-4C77-B673-DCC05FE5C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0EA8F0-1EDB-40C2-9A67-AA9E302CC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D278BE-890C-492F-8F93-48839102B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7305EE-BDB0-4398-BFCF-EF3A51EE7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89BEE8-869B-4A08-BC2D-0CFD34E64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AD2F96-9F2D-4E46-8BBA-DA897A7B2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6ED3CF-4265-414C-A954-EDE896736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2FA29D-133E-4D4A-803A-CE6408A68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0ECF2B-9164-4ED3-B204-DF381F719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DFC7DE-E5B5-4181-B0EE-9D1F95D6A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70DA18-5B94-4AB2-8504-37B45B4ED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8740B-804E-4A9D-96D6-CF0D72730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8084F7-69B8-4788-A8EC-942F8EAF9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202433-DE1A-4807-B16D-4D8F32C4A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F0E0F3-DCD8-462D-8AC7-61139E77A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2D3284-7C83-466D-97FD-5DAA967B9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DD62B4-24C5-4F04-9834-6D939AB2F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FAAAB3-041D-44F0-8274-6C188C0E6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E06320-C39F-491E-9409-D139845FD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23F6D3-156B-47E0-AA5B-90E7C0E02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E922CC-A8DB-495E-8FC9-C18085778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2C6DD-7718-4E71-B91B-6B096E3F9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3C0C9-F282-4FA3-8297-5002CFFD1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A8F3F-8EFB-4DDF-BE60-88FDD0F79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45FF7-D8C9-435E-BE0A-891BE0328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A0366-FB6F-4271-8F70-753F672A0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4D7FE-21D5-4C64-B838-9A3D0B57759B}" type="slidenum">
              <a:rPr b="0" lang="en-US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17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18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Straight Connector 19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20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21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22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23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24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25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26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640" cy="569772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680AE-266F-49CD-AF69-EC925650434E}" type="slidenum">
              <a:rPr b="0" lang="en-US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C62D3-8092-4FAD-B359-D01F636C8BFB}" type="slidenum">
              <a:rPr b="0" lang="en-US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32B21-845B-4B39-9FB4-61DD2321CE7D}" type="slidenum">
              <a:rPr b="0" lang="en-US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Differentiated Instruction for Teaching in the Block Schedule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6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Diane Hubona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indent="0" algn="r">
              <a:lnSpc>
                <a:spcPct val="6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Chris Singler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indent="0" algn="r">
              <a:lnSpc>
                <a:spcPct val="6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Erie Strong Vincen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indent="0" algn="r">
              <a:lnSpc>
                <a:spcPct val="6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Session #4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indent="0" algn="r">
              <a:lnSpc>
                <a:spcPct val="6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December 7, 2013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indent="0" algn="r">
              <a:lnSpc>
                <a:spcPct val="6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Snow Make-up Day: January 25, 2014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indent="0" algn="r">
              <a:lnSpc>
                <a:spcPct val="6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Final Project Carousel 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404040"/>
                </a:solidFill>
                <a:latin typeface="Trebuchet MS"/>
              </a:rPr>
              <a:t>Inside/Outside Circle</a:t>
            </a:r>
            <a:endParaRPr b="0" lang="en-US" sz="4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42" name="Picture 3" descr=""/>
          <p:cNvPicPr/>
          <p:nvPr/>
        </p:nvPicPr>
        <p:blipFill>
          <a:blip r:embed="rId1"/>
          <a:stretch/>
        </p:blipFill>
        <p:spPr>
          <a:xfrm>
            <a:off x="914400" y="2971800"/>
            <a:ext cx="5013360" cy="37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Final Evaluation Form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Trebuchet MS"/>
              </a:rPr>
              <a:t>Co-facilitators: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Trebuchet MS"/>
              </a:rPr>
              <a:t>Diane Hubona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Trebuchet MS"/>
              </a:rPr>
              <a:t>Chris Singler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Trebuchet MS"/>
              </a:rPr>
              <a:t>PLN 13—Erie Strong Vincent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Food For Thought!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990360"/>
            <a:ext cx="65008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     </a:t>
            </a: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What we need is a shift from </a:t>
            </a:r>
            <a:r>
              <a:rPr b="0" i="1" lang="en-US" sz="2200" spc="-1" strike="noStrike">
                <a:solidFill>
                  <a:srgbClr val="404040"/>
                </a:solidFill>
                <a:latin typeface="Trebuchet MS"/>
              </a:rPr>
              <a:t>quality control</a:t>
            </a: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 in learning to </a:t>
            </a:r>
            <a:r>
              <a:rPr b="0" i="1" lang="en-US" sz="2200" spc="-1" strike="noStrike">
                <a:solidFill>
                  <a:srgbClr val="404040"/>
                </a:solidFill>
                <a:latin typeface="Trebuchet MS"/>
              </a:rPr>
              <a:t>quality assurance</a:t>
            </a: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. Traditional approaches to instruction and assessment involve teaching some given material, and then, at the end of teaching, working out who has and hasn't learned it—akin to a quality control approach in manufacturing. In contrast, assessment </a:t>
            </a:r>
            <a:r>
              <a:rPr b="0" i="1" lang="en-US" sz="2200" spc="-1" strike="noStrike">
                <a:solidFill>
                  <a:srgbClr val="404040"/>
                </a:solidFill>
                <a:latin typeface="Trebuchet MS"/>
              </a:rPr>
              <a:t>for</a:t>
            </a: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 learning involves adjusting teaching as needed while the learning is still taking place—a quality assurance approach. Quality assurance also involves a shift of attention from teaching to learning. The emphasis is on what the students are getting out of the process rather than on what teachers are putting into it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         </a:t>
            </a: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--Dylan Wiliam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16" name="Picture 5" descr="PIIC_Logo_tag"/>
          <p:cNvPicPr/>
          <p:nvPr/>
        </p:nvPicPr>
        <p:blipFill>
          <a:blip r:embed="rId1"/>
          <a:stretch/>
        </p:blipFill>
        <p:spPr>
          <a:xfrm>
            <a:off x="7391520" y="5813280"/>
            <a:ext cx="914400" cy="78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ollins 10% Summary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404040"/>
                </a:solidFill>
                <a:latin typeface="Trebuchet MS"/>
              </a:rPr>
              <a:t>Highlight 10 words in the Wiliam quote that impact your role as teacher.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19" name="Picture 4" descr="MC900389286[1]"/>
          <p:cNvPicPr/>
          <p:nvPr/>
        </p:nvPicPr>
        <p:blipFill>
          <a:blip r:embed="rId1"/>
          <a:stretch/>
        </p:blipFill>
        <p:spPr>
          <a:xfrm>
            <a:off x="6434280" y="3505320"/>
            <a:ext cx="273816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90c226"/>
                </a:solidFill>
                <a:latin typeface="Trebuchet MS"/>
              </a:rPr>
              <a:t>Please Do Now: Assessment Match!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21" name="Picture 5" descr="j0439533"/>
          <p:cNvPicPr/>
          <p:nvPr/>
        </p:nvPicPr>
        <p:blipFill>
          <a:blip r:embed="rId1"/>
          <a:stretch/>
        </p:blipFill>
        <p:spPr>
          <a:xfrm>
            <a:off x="1600200" y="1884240"/>
            <a:ext cx="6172200" cy="410868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6" descr="PIIC_Logo_tag"/>
          <p:cNvPicPr/>
          <p:nvPr/>
        </p:nvPicPr>
        <p:blipFill>
          <a:blip r:embed="rId2"/>
          <a:stretch/>
        </p:blipFill>
        <p:spPr>
          <a:xfrm>
            <a:off x="7696080" y="5616720"/>
            <a:ext cx="1236960" cy="105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Formative Assessmen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aking the Pulse…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Knowledge rating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top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Under Constructio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Yield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Green Ligh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25" name="Picture 4" descr="MC900366618[1]"/>
          <p:cNvPicPr/>
          <p:nvPr/>
        </p:nvPicPr>
        <p:blipFill>
          <a:blip r:embed="rId1"/>
          <a:stretch/>
        </p:blipFill>
        <p:spPr>
          <a:xfrm>
            <a:off x="5638680" y="1371600"/>
            <a:ext cx="1322640" cy="137160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5" descr="PIIC_Logo_tag"/>
          <p:cNvPicPr/>
          <p:nvPr/>
        </p:nvPicPr>
        <p:blipFill>
          <a:blip r:embed="rId2"/>
          <a:stretch/>
        </p:blipFill>
        <p:spPr>
          <a:xfrm>
            <a:off x="7315200" y="5334120"/>
            <a:ext cx="1143000" cy="97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Text Render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rebuchet MS"/>
              </a:rPr>
              <a:t>Formative Assessment Article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25800" indent="-3258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25800" indent="-3258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rebuchet MS"/>
              </a:rPr>
              <a:t>***3 V.I.P.’s   very important points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25800" indent="-3258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25800" indent="-3258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rebuchet MS"/>
              </a:rPr>
              <a:t>Table Talk   reach a group consensus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25800" indent="-3258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25800" indent="-3258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rebuchet MS"/>
              </a:rPr>
              <a:t>***1 M.V.P.   Most valuable point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The Case for Formative Assessment: Assessment for Learning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2209680"/>
            <a:ext cx="6348240" cy="38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Video Clip—Dylan Wiliam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 Char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What I Hear/ What I Think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31" name="Picture 6" descr="PIIC_Logo_tag"/>
          <p:cNvPicPr/>
          <p:nvPr/>
        </p:nvPicPr>
        <p:blipFill>
          <a:blip r:embed="rId1"/>
          <a:stretch/>
        </p:blipFill>
        <p:spPr>
          <a:xfrm>
            <a:off x="6248520" y="4343400"/>
            <a:ext cx="2017440" cy="172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Take Ten Step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09120" y="1828440"/>
            <a:ext cx="6348600" cy="42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rebuchet MS"/>
              </a:rPr>
              <a:t>Jot-a-Thought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rebuchet MS"/>
              </a:rPr>
              <a:t>Discuss one thought you have concerning formative assessment as it relates to the video clip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rebuchet MS"/>
              </a:rPr>
              <a:t>Take ten steps to someone you do not know…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rebuchet MS"/>
              </a:rPr>
              <a:t>Pair/Share Partners!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34" name="Picture 4" descr="PIIC_Logo_tag"/>
          <p:cNvPicPr/>
          <p:nvPr/>
        </p:nvPicPr>
        <p:blipFill>
          <a:blip r:embed="rId1"/>
          <a:stretch/>
        </p:blipFill>
        <p:spPr>
          <a:xfrm>
            <a:off x="7543800" y="5692680"/>
            <a:ext cx="1085760" cy="92880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6" descr="MM900284097[1]"/>
          <p:cNvPicPr/>
          <p:nvPr/>
        </p:nvPicPr>
        <p:blipFill>
          <a:blip r:embed="rId2"/>
          <a:stretch/>
        </p:blipFill>
        <p:spPr>
          <a:xfrm>
            <a:off x="7238880" y="533520"/>
            <a:ext cx="542880" cy="57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90c226"/>
                </a:solidFill>
                <a:latin typeface="Trebuchet MS"/>
              </a:rPr>
              <a:t>Instructional Strategies Sorting Activity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Red light/yellow light/green ligh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38" name="Picture 4" descr="MC900433882[1]"/>
          <p:cNvPicPr/>
          <p:nvPr/>
        </p:nvPicPr>
        <p:blipFill>
          <a:blip r:embed="rId1"/>
          <a:stretch/>
        </p:blipFill>
        <p:spPr>
          <a:xfrm>
            <a:off x="3048120" y="2590920"/>
            <a:ext cx="2743200" cy="274320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5" descr="PIIC_Logo_tag"/>
          <p:cNvPicPr/>
          <p:nvPr/>
        </p:nvPicPr>
        <p:blipFill>
          <a:blip r:embed="rId2"/>
          <a:stretch/>
        </p:blipFill>
        <p:spPr>
          <a:xfrm>
            <a:off x="7162920" y="5376960"/>
            <a:ext cx="1255680" cy="10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05T00:07:28Z</dcterms:created>
  <dc:creator>Ken</dc:creator>
  <dc:description/>
  <dc:language>en-US</dc:language>
  <cp:lastModifiedBy>Ken</cp:lastModifiedBy>
  <dcterms:modified xsi:type="dcterms:W3CDTF">2014-01-24T01:33:14Z</dcterms:modified>
  <cp:revision>10</cp:revision>
  <dc:subject/>
  <dc:title>Differentiated Instructional for Teaching in the Block Schedule</dc:title>
</cp:coreProperties>
</file>