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2DC-2C9C-4366-A10D-6D169BDA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1FD-1268-4018-846D-91A3C87B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7AB-1711-4F90-8127-3DA88892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AD8-F9BF-4B73-BD32-6EDD5AD4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DEF-8EFD-4BEB-91BB-27900522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B47-57D8-492B-B602-A2016CB0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400-BE64-4D29-ADD3-90A2E465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22C-89B6-49AC-8F32-75758283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856-F09D-4259-A7CA-ADDFED9B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AFF-F120-49EE-8652-823DBD0E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690-D9D7-4815-B46F-52F6A8D1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BA3-80EB-4EAE-A3CB-B6457579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C7A9-CE5D-4B60-A484-D1C4EC880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 to Session #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N 13: Differentiated Instructional Strategies for the Block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ne Hub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 Sing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e Strong Vin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9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c Stri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three other pieces to your car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sorts have you done in your classroom content ar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Q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assigned reading to prepare for small-group discus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SQC2 template as your notemaking de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Do the Ma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tty Squirr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cy in the Scienc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rning Wheel BDA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-Search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cket out the D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entence, One Phrase, On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7:16:21Z</dcterms:created>
  <dc:creator>Ken</dc:creator>
  <dc:description/>
  <dc:language>en-US</dc:language>
  <cp:lastModifiedBy>Ken</cp:lastModifiedBy>
  <dcterms:modified xsi:type="dcterms:W3CDTF">2013-11-06T20:34:00Z</dcterms:modified>
  <cp:revision>3</cp:revision>
  <dc:subject/>
  <dc:title>Welcome to Session #3 PLN 13</dc:title>
</cp:coreProperties>
</file>