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D37-03C8-41EF-9EAF-AB315DBE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F30-3576-42D2-8B3F-9413CAFA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709-240A-45A4-BFE2-77D82237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8C9-7EFE-4F91-8FEB-6BA3ED61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4A6-0932-4FFB-BD0A-571ABCA8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CAC-C25F-417F-B9F9-42F57D58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0A4-58AC-4198-83BA-7B60131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AC7-FDB9-4706-A81F-65DAB98C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98E-45BA-4A07-BCFF-343ED44C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711-B5FB-4C17-AD01-A2F98D2B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DF8-8BC3-4E22-AAFA-C82BCBEE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84B-C95B-4AE8-9623-C2924720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F9F8-229C-4778-8744-334525626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e Hub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Sing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e Strong Vin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9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c Stri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other pieces to your car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sorts have you done in your classroom content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Q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assigned reading to prepare for small-group discu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SQC2 template as your notemaking de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Do the Ma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tty Squirr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in the 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Wheel BDA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-Search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entence, One Phrase, On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6T20:34:00Z</dcterms:modified>
  <cp:revision>3</cp:revision>
  <dc:subject/>
  <dc:title>Welcome to Session #3 PLN 13</dc:title>
</cp:coreProperties>
</file>