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F24-E6CD-4C87-9D0A-2DB217B2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F8F-5AC5-4B8A-AC3B-9E6FC520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49D-AEA1-4610-8A27-3AD76EC4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E7B-C658-4BF7-A7CE-1BCD0407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BA4-012A-443F-BF94-6F4BB854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1CB-6175-4F33-A554-CC60C40F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E2A-679C-47EC-A6AD-73446B8A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95E-8CDB-40D5-885A-5CCD0F88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8D4-EF07-44EF-917D-957EC4F1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7A8-15C0-4778-92C4-327D1A2D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B12-E8C0-4B7E-AA9E-83B0BB5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20E-A8F3-4630-9347-18809447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BC4D-7EB1-41D5-856D-0FF77DB7B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ne Hub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 Sing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e Strong Vin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9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c Strip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hree other pieces to your car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with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sorts have you done in your classroom content ar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Q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assigned reading to prepare for small-group discu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SQC2 template as your notemaking de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the Math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tty Squirr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cy in the Science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Wheel BDA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-Search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et out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entence, One Phrase, On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6T20:34:00Z</dcterms:modified>
  <cp:revision>3</cp:revision>
  <dc:subject/>
  <dc:title>Welcome to Session #3 PLN 13</dc:title>
</cp:coreProperties>
</file>