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B4B8-F97B-4685-922F-C0652566A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C758-F216-4E22-9376-A23CE991A4A0}" type="slidenum">
              <a:rPr b="0" lang="en-US" sz="1200" spc="-1" strike="noStrike">
                <a:solidFill>
                  <a:srgbClr val="2e2b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B09-2F0F-4F87-9311-FEE1D6DC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255-CD89-4053-97B8-A5AACDE0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D97-C0A7-42E8-A4E3-88F2C987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5D5-EBA8-4E7D-9601-C80FF8A5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22C7-B090-4990-8D28-8363E572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D86B-64E9-4803-B376-10B580F0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138-B2F6-40C8-A467-79036B1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7922-DEA4-4F40-B2D0-88BE077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30EB-10E7-43BE-8746-8D762EC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F9CE-180B-44D3-95B2-BEB48A3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9AD-21F4-49E7-AE06-229A0DE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640-EFD0-41E0-8582-8573FEDD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8E2-EDB5-48ED-B09C-7CEE202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FC67-27BC-4AD2-B525-6E69001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DB2D-AC51-4B56-B934-EE4D7CE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9F59-7BAF-41ED-8733-665EBC88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5CB1-8CEA-4BB5-9151-C152059F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CD33-DE09-4D84-945F-3501A994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823C-5CB2-4D5E-BBC5-B482F9D5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43B4-E5BB-4F82-B579-72B7237E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627C-2A07-4BAF-A7BE-DA370EE1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7AD0-9C9B-4F5A-932E-60BF572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7F0-B36D-484C-AFEB-1FB4AF3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EFAC-1082-4C2E-A50B-303F5F38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69C6-1BFC-4D98-AED5-00ACEFA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EFEA-27AC-458A-8EB3-963DF2B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FEEE-6277-41B5-8334-977B9B5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7E71-EBB1-475A-B5FB-3D588B18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0054-9867-4F4C-80DF-AB71775E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2D09-1521-4798-ACFE-DD8F5FD4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3077-92B2-4068-923A-01AAFA21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4EBB-DE2D-4BAA-8D1E-1D214295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8B86-D07B-414B-8F7B-DDDFD87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674-1A8C-483E-B5C6-63D2B52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846F-3A89-47F1-A8D0-5CA5E85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78D8-105D-45AC-A264-02015EDB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C141-C98B-45DD-8DFC-E43B6484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EA78-6847-4087-9C53-8642A1A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4BE8-DC32-485F-8193-B64F08A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4104-C7F9-4F1F-90B1-10C5324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1F83-877E-4B1D-9144-CC1B6892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9C2C-9F4F-436A-BF18-95AC27BA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A027-35C2-4C6E-B96B-C5B7D605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3CAC-AE7E-4FFB-91DA-5AB96640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1B8-EA6A-475B-BEF5-67AA5E0B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B55B-8AC7-42DE-92D9-96BBBCCE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9152-8DBE-44F6-844B-911D3D65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2059-B89B-4DAD-8C1B-C9B810E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F16C5-EAAC-4A48-8A45-00AB982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F11D9-0476-46F0-B543-7CD60D6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3FAC-039B-4E40-8FCA-19285DF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FDA1-65C8-4E46-B1F5-3A1A0BE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E740-4359-4DCB-BA71-E5D966E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9216-D74E-4847-A608-83F2A7B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E841-3369-4CD9-8E4B-F67BCA18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57E-CDFE-42EF-9339-7BDD88AC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A70C-5BAA-4091-8312-262E6B7F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99BA3-5B99-4B19-B328-587D458D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CE04-5103-470C-9981-5A7FF50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DFEE-A759-48C2-B573-E9560164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E152-8989-4A88-95B1-2D12C233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A085-41BF-42C5-AE5A-161AF00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0276-263A-471D-BD71-9055BC1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EBE5-B7BC-4FFD-BF37-48292C7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06582-C1C9-4039-8E9B-6210FED4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513B5-6CC2-4B8C-AD9E-8773467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33E-8448-472C-827E-7E8C2372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32E1-22DE-4A65-B228-A53A1A1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9F37-CC5D-48C0-8A0E-2F83956F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006D-1E63-490E-A9B5-44570B2C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E89-C31E-4926-BA24-B3C49B9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513-8401-410F-A0D4-40137B7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BB71-C598-42A5-90EF-B088AF3375A3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46F-BDD9-4F33-B74D-E8770AFCAAC8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C2DC-3CDA-40F5-A2CA-0A634E3F4733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694-CD33-48B9-948D-40A33559AF9D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53EC-0C22-4784-A9BE-9251187F5152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6D8-AFC3-4D99-95DC-2DB1BAD52137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Diane Hubona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Chris Singler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Erie Strong Vincent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November 9, 2013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ALWAYS CONNECTED TO PRIOR KNOWLEDG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rite a paragraph of at least five lines detailing what you know about your topic – some background or experience you’ve had.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SOCIAL –RESEARCH IS NOT DONE IN ISOLATION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hoose a research partner and share what you have written so far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eel free to elaborate on your written response and add to it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s a partner, ask questions to help understand the topic completely.  Feel free to offer information and advice to help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20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INQUIRY – ASKING </a:t>
            </a:r>
            <a:br>
              <a:rPr sz="4400"/>
            </a:b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QUESTIONS OF IMPORTANC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0840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2e2b21"/>
                </a:solidFill>
                <a:latin typeface="Tw Cen MT"/>
              </a:rPr>
              <a:t>Working with your partner, brainstorm a minimum of three questions important to your topic – what do you need to know?</a:t>
            </a:r>
            <a:endParaRPr b="0" lang="en-US" sz="2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4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5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REFLECTIVE – TIME TO THINK, PLAN, AND ACT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980720"/>
            <a:ext cx="8153280" cy="43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Congratulations – you’ve developed a strategic plan!  What do you do next?  First?  Most important?  Need to contact someone? Head to the library? Jump on a laptop? What are your timelines? Can you group your questions to save time in your search?  List your steps here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365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SHOULD BE CONTENT-CONNECTED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students want to know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they </a:t>
            </a:r>
            <a:r>
              <a:rPr b="1" lang="en-US" sz="2200" spc="-1" strike="noStrike">
                <a:solidFill>
                  <a:srgbClr val="2e2b21"/>
                </a:solidFill>
                <a:latin typeface="Tw Cen MT"/>
              </a:rPr>
              <a:t>choose</a:t>
            </a: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 to explore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cienc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ocial studi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ma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world languag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heal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vocational class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any content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REQUIRES AND HELPS TO REFINE AN AUTHENTIC SKILL SE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o be successful, students need to learn and practice important learning skills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rmulating question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dentifying resource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ading informational tex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Organizing idea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otemak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tribut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ummar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Evaluating, Analyzing, Synthes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flecting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nquiry requires that we dig beneath the surface to explore a topic, dwell in it, wander about it, and find out information. This deeper understanding is directly related to long-term memory.”  (Harvey ‘98)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search clearly makes the connection to improved engagement, motivation, and writing skills when students participate</a:t>
            </a: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 regularly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 in inquiry-based learning activities.” (Postman &amp; Weingartner ‘06) 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 (cont.)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 the HS level, inquiry and authentic research are required staples of the highest achieving nations in literacy, science and mathematics (New Zealand, Japan, etc.) and is identified as a contributing factor in successful reform efforts across the US (TIMMS, Int’l Literacy Assess., HSTW)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AEP has identified research as both an academic and a life skill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CTE, NSF, NCTM, NCSS all identify a wide divide between research practices in classrooms vs. recommended practices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474233"/>
                </a:solidFill>
                <a:latin typeface="Tw Cen MT Condensed"/>
              </a:rPr>
              <a:t>WHAT ARE THE RECOMMENDED PRACTICES?</a:t>
            </a:r>
            <a:endParaRPr b="0" lang="en-US" sz="36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8240" y="1752480"/>
            <a:ext cx="729000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Instruction and assignments related to research should begin no later than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_____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Students should participate in approximately _________research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projects each year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Research should be a staple in ______________classroom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ormat or presentation should count for no more than _______% of a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tudent’s research 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requency is more important than ________________in build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uccessful research practice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 </a:t>
            </a: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: A TIME TO REFLEC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do you see as most valuable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ith whom should you share this information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more would you like to know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25200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OMIC STRIP SOR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1752480"/>
            <a:ext cx="692784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Find the three other pieces to your cartoon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Brainstorm with your group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type of sorts have you done in your classroom content area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lenses of learning do sorting activities support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792840" y="2206800"/>
            <a:ext cx="180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HAT HELPS BUILD SUCCESSFUL I-SEARCH EXPERIENCE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I-Search is best when it…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Builds on existing knowledg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Connects content with interest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choic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partnership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a variety of resour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xplores multiple methods of report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Requires reflection on finding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Shares results with real-world audien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474233"/>
                </a:solidFill>
                <a:latin typeface="Tw Cen MT Condensed"/>
              </a:rPr>
              <a:t>LET’S DO THE MATH!</a:t>
            </a:r>
            <a:endParaRPr b="0" lang="en-US" sz="5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Strategies That Support Math Literacy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Math BDA 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495680" y="3359160"/>
            <a:ext cx="2847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ASSESSMENTS…WHAT TEACHERS NEED TO K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Formative vs. Summative Assessment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FINAL PROJECT WORK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2e2b21"/>
                </a:solidFill>
                <a:latin typeface="Tw Cen MT"/>
              </a:rPr>
              <a:t>BDA Lesson Plan Constructive Playtime</a:t>
            </a:r>
            <a:endParaRPr b="0" lang="en-US" sz="4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NEXT STEPS?????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4000"/>
          </a:bodyPr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or December 7, 2013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Read Chapters 10, 11, 12 in Differentiated Instructional Strategies for the Block Schedule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inal lessons for sharing out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See you in December</a:t>
            </a:r>
            <a:r>
              <a:rPr b="0" lang="en-US" sz="3100" spc="-1" strike="noStrike">
                <a:solidFill>
                  <a:srgbClr val="2e2b21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42048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TICKET OUT THE DOOR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8240" y="20923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2e2b21"/>
                </a:solidFill>
                <a:latin typeface="Tw Cen MT"/>
              </a:rPr>
              <a:t>One Sentence, One Phrase, One Word</a:t>
            </a:r>
            <a:endParaRPr b="0" lang="en-US" sz="5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3733920" y="4508640"/>
            <a:ext cx="1751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QUINN’S SIX QUESTIONS FOR LESSON DESIG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1. What am I teaching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2. Why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3. How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4. Why am I teaching it that way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5. How do I know my kids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6. How do the kids know they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2109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0"/>
            <a:ext cx="7290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RSQC2: DISCUSSION PROTOCOL FOR ALL CONTENT AREA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Review the assigned reading from the Differentiated Instruction book to prepare for small-group discussions. 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Complete the RSQC2 template as your notemaking device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Discuss the assigned reading in your comic strip groups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4114800" y="1025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LITERACY IN THE SCIENCE CLASSROOM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DA Lesson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efore: Vocabulary Activity---I Know, I Think I Know, I’m Clueless!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During: Text rendering with determining importance—V.I.P.’s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After: Summarization Writing—Found Poetry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010280" y="585720"/>
            <a:ext cx="1812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000" spc="-1" strike="noStrike">
                <a:solidFill>
                  <a:srgbClr val="474233"/>
                </a:solidFill>
                <a:latin typeface="Tw Cen MT Condensed"/>
              </a:rPr>
              <a:t>I-SEARCH</a:t>
            </a:r>
            <a:r>
              <a:rPr b="0" i="1" lang="en-US" sz="4000" spc="-1" strike="noStrike">
                <a:solidFill>
                  <a:srgbClr val="474233"/>
                </a:solidFill>
                <a:latin typeface="Tw Cen MT Condensed"/>
              </a:rPr>
              <a:t>: AUTHENTIC INQUIRY FOR ALL CONTENT AREAS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47423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1224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PLEASE DO 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176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What comes to mind when you hear the following: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Inquiry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 Paper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2016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BEGINS WITH A PERSONAL CONNECTIO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2084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Think of what’s important in your life right now.  Personally or professionally, what would you like to know more about, plan or do?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Share your ideas with some neighbors and choose one.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NEEDS TO BE IMPORTANT  TO YOU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e2b21"/>
                </a:solidFill>
                <a:latin typeface="Tw Cen MT"/>
              </a:rPr>
              <a:t>Introduce your chosen topic and write a paragraph of at least five lines explaining why it’s important to you.</a:t>
            </a:r>
            <a:endParaRPr b="0" lang="en-US" sz="32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8T18:38:19Z</dcterms:modified>
  <cp:revision>8</cp:revision>
  <dc:subject/>
  <dc:title>Welcome to Session #3 PLN 13</dc:title>
</cp:coreProperties>
</file>