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9231-A422-4842-AAE4-0E3D1DF5F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2D60-CB80-4BA0-AAFB-FE795C355158}" type="slidenum">
              <a:rPr b="0" lang="en-US" sz="1200" spc="-1" strike="noStrike">
                <a:solidFill>
                  <a:srgbClr val="2e2b2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321" name="Date Placeholder 4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DA77-E247-4A5A-8328-584B0E14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C512-FF36-4B47-BB5F-D7DB9BDA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0AF8-9CD5-49E8-9CB1-838AD057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67B2-826D-445B-BC08-D0B455AE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EEE6-E631-4280-A38F-99594888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4E8D-447C-4DA6-92A0-4DDE2C8A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B09F-3C45-486C-A137-E67F03FF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D9F0-9D6B-4485-A38F-414949F7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8350-F381-46A9-9CC5-746B24A5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EAB7-3699-42A3-A740-1CB83672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945B-3CD8-43E5-A697-1A2658AE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0090-8353-4E37-BBEA-2B042D72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63B7-7A51-4E34-9E84-0176469E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9479-32E9-4756-891D-4BE7FAA5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63F7-3A03-4506-8A0C-821FB2E6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4293-704D-4545-9A0B-F9751089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5EF9-0B66-4C45-8E07-150FB9D2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4896D-3DE9-46CE-A00F-F9AE826B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E33E7-B03E-4304-8896-A2EB61B6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3C7CC-69D0-48A2-A936-CAB2169C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4884E-9B4C-4B58-AC35-3C8C3343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6CDA4-C88B-40A4-8771-C87D47EB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E1E2-57ED-4853-A8AA-FF2EDC0C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3BBF5-6D9B-454E-9913-1C174BBE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2A24B-D562-4660-9237-9D7E36D8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0F070-43D9-4F0F-A1FC-B71CCB66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58010-4383-4162-946F-3AEFCCC1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7FB2A-2783-4F13-9134-F1AC4750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54D23-1748-4CFA-837B-6A8CAF86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66240-3C7A-43E1-A28A-93731DF3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F0981-D7C7-49BA-8BAE-D21B50DD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7A029-764A-4DE0-AE45-5B025A65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CD46A-6DEE-4CAA-804A-FE2CD9EB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FA85-231E-413A-BA43-932D5AEA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FAC72-D8AD-485A-B578-86C29B7B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8FD70-0E08-4D82-BE0F-89E22C35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ADA63-2B44-4645-A75F-A8EFC280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05A7A-B4DE-47AC-9D6E-D11173BB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F73E0-53CD-4A71-AEEB-30AA8B92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1F2A4-CA8F-4C9B-BD58-02C163DB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F8690-1021-4919-B456-F04A32E7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D74A6-CABE-487C-9853-3A4F02D6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AB1C4-50D1-4916-8545-F427630D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4D81B-875E-4A15-B037-34E4F1A2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1089-43B1-442C-AD5E-1CADF960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D19A4-5F77-41F5-A8B3-C37FC3DD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C5BC4-BAAA-4111-9300-BA948DB4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6158B-87B9-4885-A500-65F5C80D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DBAE1-A2F7-4047-B603-D2AF962F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D5F49-0E3D-4862-BC49-371FB5D3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30EAA-0408-48FD-A1B9-0D8EBF2F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82EF1-7B7D-4785-9102-4D13D201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4ADED-91D0-45E7-9A76-56C42FF8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59F12-A5F4-4A42-9BD4-A46C2D5A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AB6DE-9E16-4076-B365-61860CD6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77AD-B17E-4DE1-A456-4D0E7FB6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4EBB9-7D40-4214-95FE-1810AEA5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7F6FC-22EE-45FE-8A6D-BB92094F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FC6E8-CD65-4453-B575-7FFD9A39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DC414-319D-4C0E-9DEC-C602AC60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DDC1F-8A5A-4527-9B90-FF4CAB9D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0016D-22F6-4603-B247-9546B205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FA7CB-5DC0-48CB-B7A2-0CF841FB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C4737-29AE-40B6-8A7B-7AD4FBD1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5BE0F-CA11-4297-9551-68813F03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3A30C-FAB7-4884-B1C0-7EDAAAEB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07F0-6985-4D6E-9F70-6D624149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7E947-E021-4020-AEF5-BA397BA0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77F92-6B47-4766-9270-49B61127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C5E9B-4210-4CF5-859E-516B508D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1515-3ED7-4722-A8AA-279C522D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2921-23AF-4B25-8986-66279A81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FAFC-E708-4953-8674-81E05594370E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9cb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43" name="Straight Connector 8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9DDB-E01D-4528-94E5-1D51678790DF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d2cb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86" name="Straight Connector 8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d2cb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DB19-AEBC-4D69-9433-276A81E1FACC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9A4E-C33B-488F-BF45-B5CFED912738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E38D-E97E-4D65-AB31-792EDD41A17C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749D-DAB6-4C76-927F-8EDED91AD0AC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474233"/>
                </a:solidFill>
                <a:latin typeface="Tw Cen MT Condensed"/>
              </a:rPr>
              <a:t>WELCOME TO SESSION #3</a:t>
            </a:r>
            <a:br>
              <a:rPr sz="4000"/>
            </a:br>
            <a:r>
              <a:rPr b="0" lang="en-US" sz="4000" spc="-1" strike="noStrike">
                <a:solidFill>
                  <a:srgbClr val="474233"/>
                </a:solidFill>
                <a:latin typeface="Tw Cen MT Condensed"/>
              </a:rPr>
              <a:t>PLN 13: DIFFERENTIATED INSTRUCTIONAL STRATEGIES FOR THE BLOCK SCHEDULE</a:t>
            </a:r>
            <a:endParaRPr b="0" lang="en-US" sz="40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1430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474233"/>
                </a:solidFill>
                <a:latin typeface="Tw Cen MT"/>
              </a:rPr>
              <a:t>Diane Hubona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474233"/>
                </a:solidFill>
                <a:latin typeface="Tw Cen MT"/>
              </a:rPr>
              <a:t>Chris Singler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474233"/>
                </a:solidFill>
                <a:latin typeface="Tw Cen MT"/>
              </a:rPr>
              <a:t>Erie Strong Vincent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474233"/>
                </a:solidFill>
                <a:latin typeface="Tw Cen MT"/>
              </a:rPr>
              <a:t>November 9, 2013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IS ALWAYS CONNECTED TO PRIOR KNOWLEDGE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Write a paragraph of at least five lines detailing what you know about your topic – some background or experience you’ve had.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IS SOCIAL –RESEARCH IS NOT DONE IN ISOLATION 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5000"/>
          </a:bodyPr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hoose a research partner and share what you have written so far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eel free to elaborate on your written response and add to it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As a partner, ask questions to help understand the topic completely.  Feel free to offer information and advice to help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22016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IS INQUIRY – ASKING </a:t>
            </a:r>
            <a:br>
              <a:rPr sz="4400"/>
            </a:b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QUESTIONS OF IMPORTANCE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09120" y="2084040"/>
            <a:ext cx="8077320" cy="449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2e2b21"/>
                </a:solidFill>
                <a:latin typeface="Tw Cen MT"/>
              </a:rPr>
              <a:t>Working with your partner, brainstorm a minimum of three questions important to your topic – what do you need to know?</a:t>
            </a:r>
            <a:endParaRPr b="0" lang="en-US" sz="2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2e2b21"/>
                </a:solidFill>
                <a:latin typeface="Tw Cen MT"/>
              </a:rPr>
              <a:t>1.</a:t>
            </a:r>
            <a:endParaRPr b="0" lang="en-US" sz="12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2.</a:t>
            </a: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3.</a:t>
            </a: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4.</a:t>
            </a: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5.</a:t>
            </a: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IS REFLECTIVE – TIME TO THINK, PLAN, AND ACT 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33520" y="1980720"/>
            <a:ext cx="8153280" cy="4365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Congratulations – you’ve developed a strategic plan!  What do you do next?  First?  Most important?  Need to contact someone? Head to the library? Jump on a laptop? What are your timelines? Can you group your questions to save time in your search?  List your steps here.</a:t>
            </a: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 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1.</a:t>
            </a: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 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2.</a:t>
            </a: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 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3.</a:t>
            </a: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36596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SHOULD BE CONTENT-CONNECTED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marL="89280" indent="-892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2e2b21"/>
                </a:solidFill>
                <a:latin typeface="Tw Cen MT"/>
              </a:rPr>
              <a:t>What do students want to know?</a:t>
            </a:r>
            <a:endParaRPr b="0" lang="en-US" sz="2200" spc="-1" strike="noStrike">
              <a:solidFill>
                <a:srgbClr val="2e2b21"/>
              </a:solidFill>
              <a:latin typeface="Tw Cen MT"/>
            </a:endParaRPr>
          </a:p>
          <a:p>
            <a:pPr marL="89280" indent="-892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2e2b21"/>
              </a:solidFill>
              <a:latin typeface="Tw Cen MT"/>
            </a:endParaRPr>
          </a:p>
          <a:p>
            <a:pPr marL="89280" indent="-892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2e2b21"/>
                </a:solidFill>
                <a:latin typeface="Tw Cen MT"/>
              </a:rPr>
              <a:t>What do they </a:t>
            </a:r>
            <a:r>
              <a:rPr b="1" lang="en-US" sz="2200" spc="-1" strike="noStrike">
                <a:solidFill>
                  <a:srgbClr val="2e2b21"/>
                </a:solidFill>
                <a:latin typeface="Tw Cen MT"/>
              </a:rPr>
              <a:t>choose</a:t>
            </a:r>
            <a:r>
              <a:rPr b="0" lang="en-US" sz="2200" spc="-1" strike="noStrike">
                <a:solidFill>
                  <a:srgbClr val="2e2b21"/>
                </a:solidFill>
                <a:latin typeface="Tw Cen MT"/>
              </a:rPr>
              <a:t> to explore?</a:t>
            </a:r>
            <a:endParaRPr b="0" lang="en-US" sz="22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science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social studies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math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world language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health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vocational classes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any content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REQUIRES AND HELPS TO REFINE AN AUTHENTIC SKILL SE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o be successful, students need to learn and practice important learning skills: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rmulating questions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Identifying resources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Reading informational tex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Organizing ideas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Notemaking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Attributing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ummarizing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Evaluating, Analyzing, Synthesizing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Reflecting 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WILL I-SEARCH IMPACT STUDENT LEARNING AND ACHIEVEMENT?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000" spc="-1" strike="noStrike">
                <a:solidFill>
                  <a:srgbClr val="2e2b21"/>
                </a:solidFill>
                <a:latin typeface="Tw Cen MT"/>
              </a:rPr>
              <a:t>The Research: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“</a:t>
            </a: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Inquiry requires that we dig beneath the surface to explore a topic, dwell in it, wander about it, and find out information. This deeper understanding is directly related to long-term memory.”  (Harvey ‘98)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“</a:t>
            </a: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Research clearly makes the connection to improved engagement, motivation, and writing skills when students participate</a:t>
            </a:r>
            <a:r>
              <a:rPr b="0" i="1" lang="en-US" sz="2000" spc="-1" strike="noStrike">
                <a:solidFill>
                  <a:srgbClr val="2e2b21"/>
                </a:solidFill>
                <a:latin typeface="Tw Cen MT"/>
              </a:rPr>
              <a:t> regularly</a:t>
            </a: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 in inquiry-based learning activities.” (Postman &amp; Weingartner ‘06)  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WILL I-SEARCH IMPACT STUDENT LEARNING AND ACHIEVEMENT?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4000"/>
          </a:bodyPr>
          <a:p>
            <a:pPr marL="84600" indent="-846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000" spc="-1" strike="noStrike">
                <a:solidFill>
                  <a:srgbClr val="2e2b21"/>
                </a:solidFill>
                <a:latin typeface="Tw Cen MT"/>
              </a:rPr>
              <a:t>The Research (cont.):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At the HS level, inquiry and authentic research are required staples of the highest achieving nations in literacy, science and mathematics (New Zealand, Japan, etc.) and is identified as a contributing factor in successful reform efforts across the US (TIMMS, Int’l Literacy Assess., HSTW)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NAEP has identified research as both an academic and a life skill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NCTE, NSF, NCTM, NCSS all identify a wide divide between research practices in classrooms vs. recommended practices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3600" spc="-1" strike="noStrike">
                <a:solidFill>
                  <a:srgbClr val="474233"/>
                </a:solidFill>
                <a:latin typeface="Tw Cen MT Condensed"/>
              </a:rPr>
              <a:t>WHAT ARE THE RECOMMENDED PRACTICES?</a:t>
            </a:r>
            <a:endParaRPr b="0" lang="en-US" sz="36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768240" y="1752480"/>
            <a:ext cx="7290000" cy="455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lvl="1" marL="251640" indent="-1296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*  Instruction and assignments related to research should begin no later than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             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_____grade.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*  Students should participate in approximately _________research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            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projects each year.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*  Research should be a staple in ______________classrooms.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*  Format or presentation should count for no more than _______% of a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            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student’s research grade.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*  Frequency is more important than ________________in building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             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successful research practices.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 </a:t>
            </a: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: A TIME TO REFLEC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What do you see as most valuable?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With whom should you share this information?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What more would you like to know?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8240" y="252000"/>
            <a:ext cx="7290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OMIC STRIP SOR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68240" y="1752480"/>
            <a:ext cx="6927840" cy="455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3000"/>
          </a:bodyPr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Find the three other pieces to your cartoon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Brainstorm with your group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What type of sorts have you done in your classroom content area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What lenses of learning do sorting activities support</a:t>
            </a: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?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264" name="Picture 1" descr=""/>
          <p:cNvPicPr/>
          <p:nvPr/>
        </p:nvPicPr>
        <p:blipFill>
          <a:blip r:embed="rId1"/>
          <a:stretch/>
        </p:blipFill>
        <p:spPr>
          <a:xfrm>
            <a:off x="6792840" y="2206800"/>
            <a:ext cx="18064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WHAT HELPS BUILD SUCCESSFUL I-SEARCH EXPERIENCES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I-Search is best when it…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Builds on existing knowledge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Connects content with interest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Encourages choice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Encourages partnerships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Encourages a variety of resources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Explores multiple methods of reporting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Requires reflection on findings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Shares results with real-world audiences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5400" spc="-1" strike="noStrike">
                <a:solidFill>
                  <a:srgbClr val="474233"/>
                </a:solidFill>
                <a:latin typeface="Tw Cen MT Condensed"/>
              </a:rPr>
              <a:t>LET’S DO THE MATH!</a:t>
            </a:r>
            <a:endParaRPr b="0" lang="en-US" sz="5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2e2b21"/>
                </a:solidFill>
                <a:latin typeface="Tw Cen MT"/>
              </a:rPr>
              <a:t>Strategies That Support Math Literacy</a:t>
            </a:r>
            <a:endParaRPr b="0" lang="en-US" sz="44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2e2b21"/>
                </a:solidFill>
                <a:latin typeface="Tw Cen MT"/>
              </a:rPr>
              <a:t>Math BDA </a:t>
            </a:r>
            <a:endParaRPr b="0" lang="en-US" sz="44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4495680" y="3359160"/>
            <a:ext cx="28479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ASSESSMENTS…WHAT TEACHERS NEED TO KNOW!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2e2b21"/>
                </a:solidFill>
                <a:latin typeface="Tw Cen MT"/>
              </a:rPr>
              <a:t>Formative vs. Summative Assessment</a:t>
            </a:r>
            <a:endParaRPr b="0" lang="en-US" sz="44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FINAL PROJECT WORK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2e2b21"/>
                </a:solidFill>
                <a:latin typeface="Tw Cen MT"/>
              </a:rPr>
              <a:t>BDA Lesson Plan Constructive Playtime</a:t>
            </a:r>
            <a:endParaRPr b="0" lang="en-US" sz="48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3200400" y="3581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NEXT STEPS??????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4000"/>
          </a:bodyPr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2e2b21"/>
                </a:solidFill>
                <a:latin typeface="Tw Cen MT"/>
              </a:rPr>
              <a:t>For December 7, 2013</a:t>
            </a: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2e2b21"/>
                </a:solidFill>
                <a:latin typeface="Tw Cen MT"/>
              </a:rPr>
              <a:t>Read Chapters 10, 11, 12 in Differentiated Instructional Strategies for the Block Schedule</a:t>
            </a: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2e2b21"/>
                </a:solidFill>
                <a:latin typeface="Tw Cen MT"/>
              </a:rPr>
              <a:t>Final lessons for sharing out</a:t>
            </a: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2e2b21"/>
                </a:solidFill>
                <a:latin typeface="Tw Cen MT"/>
              </a:rPr>
              <a:t>See you in December</a:t>
            </a:r>
            <a:r>
              <a:rPr b="0" lang="en-US" sz="3100" spc="-1" strike="noStrike">
                <a:solidFill>
                  <a:srgbClr val="2e2b21"/>
                </a:solidFill>
                <a:latin typeface="Wingdings"/>
                <a:ea typeface="Wingdings"/>
              </a:rPr>
              <a:t></a:t>
            </a: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5562720" y="990720"/>
            <a:ext cx="15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2680" y="420480"/>
            <a:ext cx="72896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TICKET OUT THE DOOR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68240" y="209232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5400" spc="-1" strike="noStrike">
                <a:solidFill>
                  <a:srgbClr val="2e2b21"/>
                </a:solidFill>
                <a:latin typeface="Tw Cen MT"/>
              </a:rPr>
              <a:t>One Sentence, One Phrase, One Word</a:t>
            </a:r>
            <a:endParaRPr b="0" lang="en-US" sz="54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317" name="Picture 1" descr=""/>
          <p:cNvPicPr/>
          <p:nvPr/>
        </p:nvPicPr>
        <p:blipFill>
          <a:blip r:embed="rId1"/>
          <a:stretch/>
        </p:blipFill>
        <p:spPr>
          <a:xfrm>
            <a:off x="3733920" y="4508640"/>
            <a:ext cx="175104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QUINN’S SIX QUESTIONS FOR LESSON DESIGN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1. What am I teaching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2. Why am I teaching it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3. How am I teaching it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4. Why am I teaching it that way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5. How do I know my kids are getting it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6. How do the kids know they are getting it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7010280" y="1371600"/>
            <a:ext cx="210996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8240" y="0"/>
            <a:ext cx="7290000" cy="20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RSQC2: DISCUSSION PROTOCOL FOR ALL CONTENT AREAS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2e2b21"/>
                </a:solidFill>
                <a:latin typeface="Tw Cen MT"/>
              </a:rPr>
              <a:t>Review the assigned reading from the Differentiated Instruction book to prepare for small-group discussions. </a:t>
            </a:r>
            <a:endParaRPr b="0" lang="en-US" sz="30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2e2b21"/>
                </a:solidFill>
                <a:latin typeface="Tw Cen MT"/>
              </a:rPr>
              <a:t>Complete the RSQC2 template as your notemaking device.</a:t>
            </a:r>
            <a:endParaRPr b="0" lang="en-US" sz="30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2e2b21"/>
                </a:solidFill>
                <a:latin typeface="Tw Cen MT"/>
              </a:rPr>
              <a:t>Discuss the assigned reading in your comic strip groups.</a:t>
            </a:r>
            <a:endParaRPr b="0" lang="en-US" sz="30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4114800" y="10256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474233"/>
                </a:solidFill>
                <a:latin typeface="Tw Cen MT Condensed"/>
              </a:rPr>
              <a:t>LITERACY IN THE SCIENCE CLASSROOM</a:t>
            </a:r>
            <a:endParaRPr b="0" lang="en-US" sz="40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7000"/>
          </a:bodyPr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2e2b21"/>
                </a:solidFill>
                <a:latin typeface="Tw Cen MT"/>
              </a:rPr>
              <a:t>BDA Lesson</a:t>
            </a:r>
            <a:endParaRPr b="0" lang="en-US" sz="3600" spc="-1" strike="noStrike">
              <a:solidFill>
                <a:srgbClr val="2e2b21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2e2b21"/>
                </a:solidFill>
                <a:latin typeface="Tw Cen MT"/>
              </a:rPr>
              <a:t>Before: Vocabulary Activity---I Know, I Think I Know, I’m Clueless!</a:t>
            </a:r>
            <a:endParaRPr b="0" lang="en-US" sz="3600" spc="-1" strike="noStrike">
              <a:solidFill>
                <a:srgbClr val="2e2b21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2e2b21"/>
                </a:solidFill>
                <a:latin typeface="Tw Cen MT"/>
              </a:rPr>
              <a:t>During: Text rendering with determining importance—V.I.P.’s</a:t>
            </a:r>
            <a:endParaRPr b="0" lang="en-US" sz="3600" spc="-1" strike="noStrike">
              <a:solidFill>
                <a:srgbClr val="2e2b21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2e2b21"/>
                </a:solidFill>
                <a:latin typeface="Tw Cen MT"/>
              </a:rPr>
              <a:t>After: Summarization Writing—Found Poetry</a:t>
            </a:r>
            <a:endParaRPr b="0" lang="en-US" sz="3600" spc="-1" strike="noStrike">
              <a:solidFill>
                <a:srgbClr val="2e2b21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7010280" y="585720"/>
            <a:ext cx="181296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4000" spc="-1" strike="noStrike">
                <a:solidFill>
                  <a:srgbClr val="474233"/>
                </a:solidFill>
                <a:latin typeface="Tw Cen MT Condensed"/>
              </a:rPr>
              <a:t>I-SEARCH</a:t>
            </a:r>
            <a:r>
              <a:rPr b="0" i="1" lang="en-US" sz="4000" spc="-1" strike="noStrike">
                <a:solidFill>
                  <a:srgbClr val="474233"/>
                </a:solidFill>
                <a:latin typeface="Tw Cen MT Condensed"/>
              </a:rPr>
              <a:t>: AUTHENTIC INQUIRY FOR ALL CONTENT AREAS</a:t>
            </a:r>
            <a:endParaRPr b="0" lang="en-US" sz="40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457680" y="4959360"/>
            <a:ext cx="240012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47423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1224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PLEASE DO NOW!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3176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What comes to mind when you hear the following: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Research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Inquiry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Research Paper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220160" cy="19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BEGINS WITH A PERSONAL CONNECTION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33360" y="2084040"/>
            <a:ext cx="8229600" cy="4995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Think of what’s important in your life right now.  Personally or professionally, what would you like to know more about, plan or do?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  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Share your ideas with some neighbors and choose one.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NEEDS TO BE IMPORTANT  TO YOU 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e2b21"/>
                </a:solidFill>
                <a:latin typeface="Tw Cen MT"/>
              </a:rPr>
              <a:t>Introduce your chosen topic and write a paragraph of at least five lines explaining why it’s important to you.</a:t>
            </a:r>
            <a:endParaRPr b="0" lang="en-US" sz="32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7:16:21Z</dcterms:created>
  <dc:creator>Ken</dc:creator>
  <dc:description/>
  <dc:language>en-US</dc:language>
  <cp:lastModifiedBy>Ken</cp:lastModifiedBy>
  <dcterms:modified xsi:type="dcterms:W3CDTF">2013-11-08T18:38:19Z</dcterms:modified>
  <cp:revision>8</cp:revision>
  <dc:subject/>
  <dc:title>Welcome to Session #3 PLN 13</dc:title>
</cp:coreProperties>
</file>