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5BEF-74BF-4BE8-B6A5-78D47FAEA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9B75-63D0-4DC4-9926-DBD8FB4A2B18}" type="slidenum">
              <a:rPr b="0" lang="en-US" sz="1200" spc="-1" strike="noStrike">
                <a:solidFill>
                  <a:srgbClr val="2e2b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321" name="Date Placeholder 4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2C6A-B835-4F7B-9DDF-26592107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887B-7D24-465E-8989-83685714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D96-351F-4950-888A-B53E776A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F6F-2A5A-437A-9387-57385C06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F0D1-69AD-489A-9786-BCE5259F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DD74-843D-4D58-A166-5585F2CC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E7B1-68F7-453F-98F2-5181C8C0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CA66-C4E0-4012-A0F8-1C850731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0F86-058E-49AB-BB9D-FC76ED5B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AD23-B7BB-41F5-AB3B-F73D71FB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2865-403F-4A35-80D8-1C1636B2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C95-BBE9-4370-88A8-4B6347BB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67C2-2E16-4468-B098-8F407EAF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20F2-9710-4421-9B53-1C0350D8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A680-9BDA-493D-9698-0D4931C4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C706-E855-40AA-B36F-33DF205A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92BA-5743-44E2-81F5-D052E93B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A23B2-FEAD-4883-8261-875CE1CD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53C1B-62A9-4FFB-A708-A2C85442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2951A-4B2D-4233-958C-A6DBD4D4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7878A-B689-4B45-9B29-D51D4BE3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61BE9-90FA-4775-893C-997116CF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6B75-4E67-44BD-9E79-F816E931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7E291-8C48-47FD-A82D-4DD0696F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D8B5A-5082-4FB6-800B-E965C695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E40BF-690C-463E-8F7D-D9671003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0B4C0-81A8-453B-883D-13CD8EDA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662EB-D524-413F-A391-9165BF9D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977E6-D591-4568-B43C-B2FD0945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71EA3-7FDA-48AF-BC22-353025C7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A8C5D-9781-400C-874C-025B1951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D3E24-0FF5-458A-A8E5-57EBD8AA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B30E0-D75D-4F77-BF63-4DA3605D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0E8-75EA-44F4-B696-7E272B71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164D8-74B2-492E-B178-3DDB4962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7588F-A852-4E41-BAF7-59079364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CB0B7-F3EF-43C4-9781-EF5428FB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1E9A8-DD82-4200-9EE1-A2009AA9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3BE42-B963-4959-9330-C003F460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7780E-7692-4DBE-9897-285EE5EF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0DEE1-13EB-43A4-8668-A1F195FF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FAF6E-5528-4BA0-A330-E7063633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4F5C6-0742-4777-B460-A3DAE6F2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48C49-C8CB-40D5-8B97-7FC0A051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18C-F787-4A90-9670-E0290711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A00F5-B09A-48FB-9AEF-DE717681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23788-0B85-40B0-9F70-1574B51B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F0DA9-C72C-4F00-B2E3-11455084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C2F23-5D08-4FF1-975D-5909FAC8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7097E-297B-4D31-AE6B-BFEDEE86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3080F-A7D1-4592-BC01-6EBAE598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914E8-005E-4E0E-8E68-078820C1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440B7-71B6-4153-9FBC-2812953D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26197-1165-4F4A-A00B-33B9ADC8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222C9-EA59-474B-81A7-CDC31C19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DBD7-EB86-4087-8E71-8567CF12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F0D02-8DB5-4C91-8C81-64C29884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DE3DD-D01D-4428-9765-F7E54DFC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045A7-F873-4BC1-9CDB-CA8D1C20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C9F5E-0F4D-4C64-A36C-38537236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A69F6-C705-455F-88EA-81E293F4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00C98-AFEB-4471-8F6F-1D258E5D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14DE5-8B41-48C2-9D9D-FD74408F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BC853-EA2C-46FA-BACD-E4E5ECF0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A7608-7A01-4E04-A27B-89F6D07E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3DAB8-F38B-42CA-9A35-A85B10C6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4F5-2971-4FC3-9F22-A9836F37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2281D-9511-4399-A528-43D23C28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B9595-AC7C-43FF-A6E9-2867A23F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0412C-7B5D-4B1E-8709-1C32B42F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4EA-EF0A-4635-B947-B63B3804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CDBB-7D14-45ED-A492-9509CF9A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D6E4-2B21-490C-8413-D40712BD4214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9cb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3" name="Straight Connector 8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CC75-CC40-4DE8-B145-EF80B3DBE106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d2cb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86" name="Straight Connector 8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d2cb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2D69-5392-4C92-9A28-245AEF7EBD30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E5EA-A995-471A-BA00-510EECB38AD6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7EBF-B81B-4B15-AE9D-90017C4D0EF0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98A2-076F-4E17-AFDF-EBD3DE9CD5E6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474233"/>
                </a:solidFill>
                <a:latin typeface="Tw Cen MT Condensed"/>
              </a:rPr>
              <a:t>WELCOME TO SESSION #3</a:t>
            </a:r>
            <a:br>
              <a:rPr sz="4000"/>
            </a:br>
            <a:r>
              <a:rPr b="0" lang="en-US" sz="4000" spc="-1" strike="noStrike">
                <a:solidFill>
                  <a:srgbClr val="474233"/>
                </a:solidFill>
                <a:latin typeface="Tw Cen MT Condensed"/>
              </a:rPr>
              <a:t>PLN 13: DIFFERENTIATED INSTRUCTIONAL STRATEGIES FOR THE BLOCK SCHEDULE</a:t>
            </a:r>
            <a:endParaRPr b="0" lang="en-US" sz="40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1430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Diane Hubona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Chris Singler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Erie Strong Vincent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November 9, 2013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ALWAYS CONNECTED TO PRIOR KNOWLEDGE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Write a paragraph of at least five lines detailing what you know about your topic – some background or experience you’ve had.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SOCIAL –RESEARCH IS NOT DONE IN ISOLATION 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5000"/>
          </a:bodyPr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hoose a research partner and share what you have written so far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eel free to elaborate on your written response and add to it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As a partner, ask questions to help understand the topic completely.  Feel free to offer information and advice to help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22016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INQUIRY – ASKING </a:t>
            </a:r>
            <a:br>
              <a:rPr sz="4400"/>
            </a:b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QUESTIONS OF IMPORTANCE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9120" y="2084040"/>
            <a:ext cx="8077320" cy="449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2e2b21"/>
                </a:solidFill>
                <a:latin typeface="Tw Cen MT"/>
              </a:rPr>
              <a:t>Working with your partner, brainstorm a minimum of three questions important to your topic – what do you need to know?</a:t>
            </a:r>
            <a:endParaRPr b="0" lang="en-US" sz="2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2e2b21"/>
                </a:solidFill>
                <a:latin typeface="Tw Cen MT"/>
              </a:rPr>
              <a:t>1.</a:t>
            </a:r>
            <a:endParaRPr b="0" lang="en-US" sz="12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2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3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4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5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REFLECTIVE – TIME TO THINK, PLAN, AND ACT 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3520" y="1980720"/>
            <a:ext cx="8153280" cy="4365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Congratulations – you’ve developed a strategic plan!  What do you do next?  First?  Most important?  Need to contact someone? Head to the library? Jump on a laptop? What are your timelines? Can you group your questions to save time in your search?  List your steps here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1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2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3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36596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SHOULD BE CONTENT-CONNECTED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marL="89280" indent="-892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2e2b21"/>
                </a:solidFill>
                <a:latin typeface="Tw Cen MT"/>
              </a:rPr>
              <a:t>What do students want to know?</a:t>
            </a:r>
            <a:endParaRPr b="0" lang="en-US" sz="2200" spc="-1" strike="noStrike">
              <a:solidFill>
                <a:srgbClr val="2e2b21"/>
              </a:solidFill>
              <a:latin typeface="Tw Cen MT"/>
            </a:endParaRPr>
          </a:p>
          <a:p>
            <a:pPr marL="89280" indent="-892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2e2b21"/>
              </a:solidFill>
              <a:latin typeface="Tw Cen MT"/>
            </a:endParaRPr>
          </a:p>
          <a:p>
            <a:pPr marL="89280" indent="-892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2e2b21"/>
                </a:solidFill>
                <a:latin typeface="Tw Cen MT"/>
              </a:rPr>
              <a:t>What do they </a:t>
            </a:r>
            <a:r>
              <a:rPr b="1" lang="en-US" sz="2200" spc="-1" strike="noStrike">
                <a:solidFill>
                  <a:srgbClr val="2e2b21"/>
                </a:solidFill>
                <a:latin typeface="Tw Cen MT"/>
              </a:rPr>
              <a:t>choose</a:t>
            </a:r>
            <a:r>
              <a:rPr b="0" lang="en-US" sz="2200" spc="-1" strike="noStrike">
                <a:solidFill>
                  <a:srgbClr val="2e2b21"/>
                </a:solidFill>
                <a:latin typeface="Tw Cen MT"/>
              </a:rPr>
              <a:t> to explore?</a:t>
            </a:r>
            <a:endParaRPr b="0" lang="en-US" sz="22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science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social studies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math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world language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health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vocational classes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any content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REQUIRES AND HELPS TO REFINE AN AUTHENTIC SKILL SE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o be successful, students need to learn and practice important learning skills: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rmulating questions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Identifying resources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Reading informational tex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Organizing ideas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Notemak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Attribut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ummariz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Evaluating, Analyzing, Synthesiz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Reflecting 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WILL I-SEARCH IMPACT STUDENT LEARNING AND ACHIEVEMENT?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000" spc="-1" strike="noStrike">
                <a:solidFill>
                  <a:srgbClr val="2e2b21"/>
                </a:solidFill>
                <a:latin typeface="Tw Cen MT"/>
              </a:rPr>
              <a:t>The Research: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“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Inquiry requires that we dig beneath the surface to explore a topic, dwell in it, wander about it, and find out information. This deeper understanding is directly related to long-term memory.”  (Harvey ‘98)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“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Research clearly makes the connection to improved engagement, motivation, and writing skills when students participate</a:t>
            </a:r>
            <a:r>
              <a:rPr b="0" i="1" lang="en-US" sz="2000" spc="-1" strike="noStrike">
                <a:solidFill>
                  <a:srgbClr val="2e2b21"/>
                </a:solidFill>
                <a:latin typeface="Tw Cen MT"/>
              </a:rPr>
              <a:t> regularly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 in inquiry-based learning activities.” (Postman &amp; Weingartner ‘06)  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WILL I-SEARCH IMPACT STUDENT LEARNING AND ACHIEVEMENT?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4000"/>
          </a:bodyPr>
          <a:p>
            <a:pPr marL="84600" indent="-846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000" spc="-1" strike="noStrike">
                <a:solidFill>
                  <a:srgbClr val="2e2b21"/>
                </a:solidFill>
                <a:latin typeface="Tw Cen MT"/>
              </a:rPr>
              <a:t>The Research (cont.):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At the HS level, inquiry and authentic research are required staples of the highest achieving nations in literacy, science and mathematics (New Zealand, Japan, etc.) and is identified as a contributing factor in successful reform efforts across the US (TIMMS, Int’l Literacy Assess., HSTW)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NAEP has identified research as both an academic and a life skill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NCTE, NSF, NCTM, NCSS all identify a wide divide between research practices in classrooms vs. recommended practices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3600" spc="-1" strike="noStrike">
                <a:solidFill>
                  <a:srgbClr val="474233"/>
                </a:solidFill>
                <a:latin typeface="Tw Cen MT Condensed"/>
              </a:rPr>
              <a:t>WHAT ARE THE RECOMMENDED PRACTICES?</a:t>
            </a:r>
            <a:endParaRPr b="0" lang="en-US" sz="36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68240" y="1752480"/>
            <a:ext cx="7290000" cy="455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lvl="1" marL="251640" indent="-1296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Instruction and assignments related to research should begin no later than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_____grade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Students should participate in approximately _________research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projects each year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Research should be a staple in ______________classrooms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Format or presentation should count for no more than _______% of a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student’s research grade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Frequency is more important than ________________in building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successful research practices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 </a:t>
            </a: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: A TIME TO REFLEC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What do you see as most valuable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With whom should you share this information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What more would you like to know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8240" y="252000"/>
            <a:ext cx="7290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OMIC STRIP SOR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8240" y="1752480"/>
            <a:ext cx="6927840" cy="455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Find the three other pieces to your cartoon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Brainstorm with your group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What type of sorts have you done in your classroom content area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What lenses of learning do sorting activities support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64" name="Picture 1" descr=""/>
          <p:cNvPicPr/>
          <p:nvPr/>
        </p:nvPicPr>
        <p:blipFill>
          <a:blip r:embed="rId1"/>
          <a:stretch/>
        </p:blipFill>
        <p:spPr>
          <a:xfrm>
            <a:off x="6792840" y="2206800"/>
            <a:ext cx="18064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WHAT HELPS BUILD SUCCESSFUL I-SEARCH EXPERIENCES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I-Search is best when it…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Builds on existing knowledge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Connects content with interest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ncourages choice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ncourages partnership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ncourages a variety of resource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xplores multiple methods of reporting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Requires reflection on finding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Shares results with real-world audience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400" spc="-1" strike="noStrike">
                <a:solidFill>
                  <a:srgbClr val="474233"/>
                </a:solidFill>
                <a:latin typeface="Tw Cen MT Condensed"/>
              </a:rPr>
              <a:t>LET’S DO THE MATH!</a:t>
            </a:r>
            <a:endParaRPr b="0" lang="en-US" sz="5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2e2b21"/>
                </a:solidFill>
                <a:latin typeface="Tw Cen MT"/>
              </a:rPr>
              <a:t>Strategies That Support Math Literacy</a:t>
            </a: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2e2b21"/>
                </a:solidFill>
                <a:latin typeface="Tw Cen MT"/>
              </a:rPr>
              <a:t>Math BDA </a:t>
            </a: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4495680" y="3359160"/>
            <a:ext cx="28479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ASSESSMENTS…WHAT TEACHERS NEED TO KNOW!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2e2b21"/>
                </a:solidFill>
                <a:latin typeface="Tw Cen MT"/>
              </a:rPr>
              <a:t>Formative vs. Summative Assessment</a:t>
            </a: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FINAL PROJECT WORK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2e2b21"/>
                </a:solidFill>
                <a:latin typeface="Tw Cen MT"/>
              </a:rPr>
              <a:t>BDA Lesson Plan Constructive Playtime</a:t>
            </a:r>
            <a:endParaRPr b="0" lang="en-US" sz="48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3200400" y="3581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NEXT STEPS??????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4000"/>
          </a:bodyPr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For December 7, 2013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Read Chapters 10, 11, 12 in Differentiated Instructional Strategies for the Block Schedule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Final lessons for sharing out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See you in December</a:t>
            </a:r>
            <a:r>
              <a:rPr b="0" lang="en-US" sz="3100" spc="-1" strike="noStrike">
                <a:solidFill>
                  <a:srgbClr val="2e2b21"/>
                </a:solidFill>
                <a:latin typeface="Wingdings"/>
                <a:ea typeface="Wingdings"/>
              </a:rPr>
              <a:t>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15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2680" y="420480"/>
            <a:ext cx="72896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TICKET OUT THE DOOR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68240" y="209232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400" spc="-1" strike="noStrike">
                <a:solidFill>
                  <a:srgbClr val="2e2b21"/>
                </a:solidFill>
                <a:latin typeface="Tw Cen MT"/>
              </a:rPr>
              <a:t>One Sentence, One Phrase, One Word</a:t>
            </a:r>
            <a:endParaRPr b="0" lang="en-US" sz="54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17" name="Picture 1" descr=""/>
          <p:cNvPicPr/>
          <p:nvPr/>
        </p:nvPicPr>
        <p:blipFill>
          <a:blip r:embed="rId1"/>
          <a:stretch/>
        </p:blipFill>
        <p:spPr>
          <a:xfrm>
            <a:off x="3733920" y="4508640"/>
            <a:ext cx="175104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QUINN’S SIX QUESTIONS FOR LESSON DESIGN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1. What am I teaching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2. Why am I teach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3. How am I teach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4. Why am I teaching it that way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5. How do I know my kids are gett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6. How do the kids know they are gett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210996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8240" y="0"/>
            <a:ext cx="729000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RSQC2: DISCUSSION PROTOCOL FOR ALL CONTENT AREAS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2e2b21"/>
                </a:solidFill>
                <a:latin typeface="Tw Cen MT"/>
              </a:rPr>
              <a:t>Review the assigned reading from the Differentiated Instruction book to prepare for small-group discussions. </a:t>
            </a: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2e2b21"/>
                </a:solidFill>
                <a:latin typeface="Tw Cen MT"/>
              </a:rPr>
              <a:t>Complete the RSQC2 template as your notemaking device.</a:t>
            </a: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2e2b21"/>
                </a:solidFill>
                <a:latin typeface="Tw Cen MT"/>
              </a:rPr>
              <a:t>Discuss the assigned reading in your comic strip groups.</a:t>
            </a: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4114800" y="10256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474233"/>
                </a:solidFill>
                <a:latin typeface="Tw Cen MT Condensed"/>
              </a:rPr>
              <a:t>LITERACY IN THE SCIENCE CLASSROOM</a:t>
            </a:r>
            <a:endParaRPr b="0" lang="en-US" sz="40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BDA Lesson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Before: Vocabulary Activity---I Know, I Think I Know, I’m Clueless!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During: Text rendering with determining importance—V.I.P.’s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After: Summarization Writing—Found Poetry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7010280" y="585720"/>
            <a:ext cx="181296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000" spc="-1" strike="noStrike">
                <a:solidFill>
                  <a:srgbClr val="474233"/>
                </a:solidFill>
                <a:latin typeface="Tw Cen MT Condensed"/>
              </a:rPr>
              <a:t>I-SEARCH</a:t>
            </a:r>
            <a:r>
              <a:rPr b="0" i="1" lang="en-US" sz="4000" spc="-1" strike="noStrike">
                <a:solidFill>
                  <a:srgbClr val="474233"/>
                </a:solidFill>
                <a:latin typeface="Tw Cen MT Condensed"/>
              </a:rPr>
              <a:t>: AUTHENTIC INQUIRY FOR ALL CONTENT AREAS</a:t>
            </a:r>
            <a:endParaRPr b="0" lang="en-US" sz="40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47423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1224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PLEASE DO NOW!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3176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What comes to mind when you hear the following: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Research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Inquiry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Research Paper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220160" cy="19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BEGINS WITH A PERSONAL CONNECTION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33360" y="208404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Think of what’s important in your life right now.  Personally or professionally, what would you like to know more about, plan or do?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  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Share your ideas with some neighbors and choose one.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NEEDS TO BE IMPORTANT  TO YOU 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e2b21"/>
                </a:solidFill>
                <a:latin typeface="Tw Cen MT"/>
              </a:rPr>
              <a:t>Introduce your chosen topic and write a paragraph of at least five lines explaining why it’s important to you.</a:t>
            </a:r>
            <a:endParaRPr b="0" lang="en-US" sz="32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7:16:21Z</dcterms:created>
  <dc:creator>Ken</dc:creator>
  <dc:description/>
  <dc:language>en-US</dc:language>
  <cp:lastModifiedBy>Ken</cp:lastModifiedBy>
  <dcterms:modified xsi:type="dcterms:W3CDTF">2013-11-08T18:38:19Z</dcterms:modified>
  <cp:revision>8</cp:revision>
  <dc:subject/>
  <dc:title>Welcome to Session #3 PLN 13</dc:title>
</cp:coreProperties>
</file>