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15DA-A3F3-44BE-A7FC-391F60C1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6AE2-2CD5-4AC4-827B-F592B9D9DBD5}" type="slidenum">
              <a:rPr b="0" lang="en-US" sz="1200" spc="-1" strike="noStrike">
                <a:solidFill>
                  <a:srgbClr val="2e2b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616-455B-4DC4-96F0-C6E76FF6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D2E-B882-49A2-AE82-4D9F6114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B22-B7F7-4347-9E36-C9C4689B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941-0AF2-4A11-8186-4CEA81D6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3351-6C1F-4662-8DCD-58F74C3F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20EA-0E22-4370-9732-43B294D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8930-7D01-40EB-BEB8-719A5DDA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4F92-2926-418B-9C6F-7C8D9FDE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7945-9689-4E95-B4A6-DF465FD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93BD-FBC4-4545-8862-8C05815E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6D81-5A65-4FCF-A740-80B2778D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B8C-E2DE-4160-8544-00D8BF20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24F-B869-4162-8FDB-D7D2119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258-AEE0-49FA-A9CA-A3895ECF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FEB8-8B01-4819-AD82-F77A446B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F1B3-1820-4167-9876-78303A06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7F40-319A-42C4-834E-D5C51FAF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97AE-897C-461D-A30E-BF1B784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F3CD7-BB0F-481F-9592-513172FA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8FFF-E5FF-48CE-AD17-6F08DD3C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D11F-E2C2-4203-B059-6CA40D1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AED5-CCE4-4A76-A75A-4FB776DA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C29-53F7-4675-A8C1-B8761A7E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6108-B62F-4205-9E3A-271C9BCB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2154-D703-4537-B18D-8616443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CBAF-26F7-4AE9-BF61-10C36B8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6BD7-72BE-4183-B01C-9978D49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A0EF-BEEC-4EA2-8851-3C09C6B0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9046-9374-44F8-9992-75CE32D7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FA62-7AF4-41CE-A447-02574FAC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E02B-7EC3-4BB5-B70C-C697672E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46E05-20A8-4D6A-B297-37F9512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8A8B-0E0B-4778-A87F-656AFA7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A7C-0C1E-4673-B664-08E84973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1967-E253-4472-9FBC-1F2F4C6B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365D-85AB-48AF-B0F5-800E488B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6398-80B5-4A68-83D7-F1B5EC4B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EEEA-B2A0-45AF-88E1-D4D2FC8E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1B32-ADF9-401F-9E35-3FA3A631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2AA36-BEE7-46D6-B294-31CC966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F93F-8C5F-4BBC-83FC-230FA6F5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B197-4CC3-4046-9E47-780CE96B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2FA9-869B-4A11-8B92-26409848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44175-4AFB-44FE-B543-5B046C29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3E6-36D4-4813-BB91-17CDF4C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C508C-C135-4EEE-B2C2-3B675CE8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DE9E-6B79-4D74-95F9-D6CE33E2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4CB7-A501-4A8C-B295-C3D5CDC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D6B1C-7EE6-4C3F-BCD7-BE7ECCF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DA76-ED2B-432D-9EA6-0F242CD7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89F6-7FB3-4EE4-9FA7-AE87853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48DC-1EB1-4C05-84FB-B2F3F89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9D34B-C8B3-49C0-8D23-F34C0609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1DDA-A9A2-4A33-A1C4-7873769D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B63B-4D11-475E-AB22-05801824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EB7-A8B6-4290-95ED-0C830B35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B2EF-83E0-4E46-9D36-59936BBD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B2CE-1367-4B3C-BD5A-FEB7B32F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6B45-2EC6-429C-9D4F-34A7FC1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E29D-592D-4ABD-A8D3-3B70F7CF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6545F-A344-4B70-AA7F-DFC37348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8BBDB-A837-4217-991B-BAA639AE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5E2F-11B9-4AA8-9C1B-C6C917E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82EFB-3455-4F20-A857-7232B539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94DE8-C032-4E58-9159-6730B1B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18699-3ECE-4594-9337-6C264C9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52B-4DDB-405C-B5CF-5741842C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64B17-1EC6-495B-AD08-32FB0DE7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97F96-3FA0-43C8-A2F6-378222C8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F566-148D-4C99-8B60-F636341F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F38-3AAC-44B6-9E47-D4F44905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21E-3D06-41B5-BA0B-1B8FE3E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E8C3-6711-437C-95FB-9F685C12018E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F31F-D8F7-4D47-A228-CA35F5B85B4D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B691-F02D-41B2-A073-D549444F11B4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30D8-BE6A-450D-9597-8C6DB19D7528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A1EF-968C-451F-860A-EB6E3FE8E45D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6736-F456-4104-A125-C84A19AEA688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Diane Hubona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Chris Singler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Erie Strong Vincent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November 9, 2013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ALWAYS CONNECTED TO PRIOR KNOWLEDG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rite a paragraph of at least five lines detailing what you know about your topic – some background or experience you’ve had.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SOCIAL –RESEARCH IS NOT DONE IN ISOLATION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hoose a research partner and share what you have written so far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eel free to elaborate on your written response and add to it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s a partner, ask questions to help understand the topic completely.  Feel free to offer information and advice to help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20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INQUIRY – ASKING </a:t>
            </a:r>
            <a:br>
              <a:rPr sz="4400"/>
            </a:b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QUESTIONS OF IMPORTANC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0840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2e2b21"/>
                </a:solidFill>
                <a:latin typeface="Tw Cen MT"/>
              </a:rPr>
              <a:t>Working with your partner, brainstorm a minimum of three questions important to your topic – what do you need to know?</a:t>
            </a:r>
            <a:endParaRPr b="0" lang="en-US" sz="2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4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5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REFLECTIVE – TIME TO THINK, PLAN, AND ACT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980720"/>
            <a:ext cx="8153280" cy="43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Congratulations – you’ve developed a strategic plan!  What do you do next?  First?  Most important?  Need to contact someone? Head to the library? Jump on a laptop? What are your timelines? Can you group your questions to save time in your search?  List your steps here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365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SHOULD BE CONTENT-CONNECTED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students want to know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they </a:t>
            </a:r>
            <a:r>
              <a:rPr b="1" lang="en-US" sz="2200" spc="-1" strike="noStrike">
                <a:solidFill>
                  <a:srgbClr val="2e2b21"/>
                </a:solidFill>
                <a:latin typeface="Tw Cen MT"/>
              </a:rPr>
              <a:t>choose</a:t>
            </a: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 to explore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cienc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ocial studi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ma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world languag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heal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vocational class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any content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REQUIRES AND HELPS TO REFINE AN AUTHENTIC SKILL SE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o be successful, students need to learn and practice important learning skills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rmulating question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dentifying resource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ading informational tex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Organizing idea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otemak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tribut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ummar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Evaluating, Analyzing, Synthes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flecting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nquiry requires that we dig beneath the surface to explore a topic, dwell in it, wander about it, and find out information. This deeper understanding is directly related to long-term memory.”  (Harvey ‘98)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search clearly makes the connection to improved engagement, motivation, and writing skills when students participate</a:t>
            </a: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 regularly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 in inquiry-based learning activities.” (Postman &amp; Weingartner ‘06) 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 (cont.)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 the HS level, inquiry and authentic research are required staples of the highest achieving nations in literacy, science and mathematics (New Zealand, Japan, etc.) and is identified as a contributing factor in successful reform efforts across the US (TIMMS, Int’l Literacy Assess., HSTW)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AEP has identified research as both an academic and a life skill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CTE, NSF, NCTM, NCSS all identify a wide divide between research practices in classrooms vs. recommended practices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474233"/>
                </a:solidFill>
                <a:latin typeface="Tw Cen MT Condensed"/>
              </a:rPr>
              <a:t>WHAT ARE THE RECOMMENDED PRACTICES?</a:t>
            </a:r>
            <a:endParaRPr b="0" lang="en-US" sz="36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8240" y="1752480"/>
            <a:ext cx="729000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Instruction and assignments related to research should begin no later than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_____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Students should participate in approximately _________research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projects each year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Research should be a staple in ______________classroom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ormat or presentation should count for no more than _______% of a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tudent’s research 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requency is more important than ________________in build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uccessful research practice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 </a:t>
            </a: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: A TIME TO REFLEC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do you see as most valuable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ith whom should you share this information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more would you like to know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252000"/>
            <a:ext cx="7290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OMIC STRIP SOR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1752480"/>
            <a:ext cx="692784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Find the three other pieces to your cartoon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Brainstorm with your group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type of sorts have you done in your classroom content area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lenses of learning do sorting activities support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6792840" y="2206800"/>
            <a:ext cx="180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HAT HELPS BUILD SUCCESSFUL I-SEARCH EXPERIENCE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I-Search is best when it…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Builds on existing knowledg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Connects content with interest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choic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partnership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a variety of resour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xplores multiple methods of report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Requires reflection on finding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Shares results with real-world audien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474233"/>
                </a:solidFill>
                <a:latin typeface="Tw Cen MT Condensed"/>
              </a:rPr>
              <a:t>LET’S DO THE MATH!</a:t>
            </a:r>
            <a:endParaRPr b="0" lang="en-US" sz="5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Strategies That Support Math Literacy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Math BDA 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495680" y="3359160"/>
            <a:ext cx="2847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ASSESSMENTS…WHAT TEACHERS NEED TO K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Formative vs. Summative Assessment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FINAL PROJECT WORK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2e2b21"/>
                </a:solidFill>
                <a:latin typeface="Tw Cen MT"/>
              </a:rPr>
              <a:t>BDA Lesson Plan Constructive Playtime</a:t>
            </a:r>
            <a:endParaRPr b="0" lang="en-US" sz="4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NEXT STEPS?????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4000"/>
          </a:bodyPr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or December 7, 2013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Read Chapters 10, 11, 12 in Differentiated Instructional Strategies for the Block Schedule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inal lessons for sharing out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See you in December</a:t>
            </a:r>
            <a:r>
              <a:rPr b="0" lang="en-US" sz="3100" spc="-1" strike="noStrike">
                <a:solidFill>
                  <a:srgbClr val="2e2b21"/>
                </a:solidFill>
                <a:latin typeface="Wingdings"/>
                <a:ea typeface="Wingdings"/>
              </a:rPr>
              <a:t>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42048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TICKET OUT THE DOOR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8240" y="209232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2e2b21"/>
                </a:solidFill>
                <a:latin typeface="Tw Cen MT"/>
              </a:rPr>
              <a:t>One Sentence, One Phrase, One Word</a:t>
            </a:r>
            <a:endParaRPr b="0" lang="en-US" sz="5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3733920" y="4508640"/>
            <a:ext cx="1751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QUINN’S SIX QUESTIONS FOR LESSON DESIG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1. What am I teaching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2. Why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3. How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4. Why am I teaching it that way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5. How do I know my kids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6. How do the kids know they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2109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0"/>
            <a:ext cx="7290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RSQC2: DISCUSSION PROTOCOL FOR ALL CONTENT AREA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Review the assigned reading from the Differentiated Instruction book to prepare for small-group discussions. 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Complete the RSQC2 template as your notemaking device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Discuss the assigned reading in your comic strip groups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4114800" y="1025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LITERACY IN THE SCIENCE CLASSROOM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DA Lesson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efore: Vocabulary Activity---I Know, I Think I Know, I’m Clueless!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During: Text rendering with determining importance—V.I.P.’s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After: Summarization Writing—Found Poetry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010280" y="585720"/>
            <a:ext cx="18129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000" spc="-1" strike="noStrike">
                <a:solidFill>
                  <a:srgbClr val="474233"/>
                </a:solidFill>
                <a:latin typeface="Tw Cen MT Condensed"/>
              </a:rPr>
              <a:t>I-SEARCH</a:t>
            </a:r>
            <a:r>
              <a:rPr b="0" i="1" lang="en-US" sz="4000" spc="-1" strike="noStrike">
                <a:solidFill>
                  <a:srgbClr val="474233"/>
                </a:solidFill>
                <a:latin typeface="Tw Cen MT Condensed"/>
              </a:rPr>
              <a:t>: AUTHENTIC INQUIRY FOR ALL CONTENT AREAS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47423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1224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PLEASE DO 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176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What comes to mind when you hear the following: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Inquiry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 Paper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2016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BEGINS WITH A PERSONAL CONNECTIO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3360" y="2084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Think of what’s important in your life right now.  Personally or professionally, what would you like to know more about, plan or do?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Share your ideas with some neighbors and choose one.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NEEDS TO BE IMPORTANT  TO YOU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e2b21"/>
                </a:solidFill>
                <a:latin typeface="Tw Cen MT"/>
              </a:rPr>
              <a:t>Introduce your chosen topic and write a paragraph of at least five lines explaining why it’s important to you.</a:t>
            </a:r>
            <a:endParaRPr b="0" lang="en-US" sz="32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8T18:38:19Z</dcterms:modified>
  <cp:revision>8</cp:revision>
  <dc:subject/>
  <dc:title>Welcome to Session #3 PLN 13</dc:title>
</cp:coreProperties>
</file>