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543-2148-48BD-9DCA-DE7BDF5E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A3B-3098-438F-BA3A-46E43587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123-CF41-4305-B736-6458A968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BE3-5563-4FE9-BC61-AAE3FB59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549D-CD22-4BB9-A928-A5227D68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2898-49DF-4124-BB90-99538D9C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4366-31EA-4471-AB54-E6FD0914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050E-8319-49F0-966D-7E28DAF2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AD84-A0BF-4C7B-803F-CBEBD3D9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EC2A-57CB-42EB-8AA5-D3A7FA89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6AF8-30DC-43F9-95FC-6C51764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3D2-F97A-46E6-84E6-EEF02AE1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1DC4-3328-4ABD-9C26-BDFAA6D0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E0C6-5647-40C6-8892-516EA2F6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379C-3B15-46E6-84A0-B1E3DFFD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25B5-7E80-4027-9F30-645473A9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87CB-5F91-43B4-A47A-B6FD3084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CFAE1-E110-4B14-B9EB-7C14D9E6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3275-726E-43B3-8109-4DBE54AD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EA7F-185B-47B3-8A9E-21DAF988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2898-1FFB-4ABB-B780-B5F85C9A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9B45-5B36-41B7-9CCA-CAEA3F74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220-82AC-4ADC-940A-C7563547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9646-07DA-4E69-B72B-9CDC8004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E650-3A85-4C8F-83EC-23F2B22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0D076-31E9-4713-A1AC-2DBC2DEC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9A2A-21AF-40DC-9C68-88EAE9A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CD0E-D2E8-415C-9808-81FA74C1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3BB1-3DFC-4EE7-80D9-283D5948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1183-5AFC-4DBD-A8A6-61FA2DAB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0E66-AAAF-4E13-87D5-636E5D5B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FF38-0DCD-4D13-AC97-5CC15429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1D806-E139-4977-912C-BD313A7A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A03-E2A1-48A1-935C-BD4966BC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DD4B-C79C-4061-B548-7E197FAE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754A-78A7-45BF-8B12-2DF5B08A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61A7-8E6C-44EA-B682-4D1C0064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CFC8-68EC-4B2D-AB22-10E56E7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00CC-4EE0-4E82-9B73-C37C0F7E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6B4C-0D2D-406A-BF16-4BF2FA53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FD62-29D1-416A-8EAE-4490F966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294F-4DA5-4421-86A1-F7F5024E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6B77-7F65-4ED3-B1D0-80211C71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193-6C89-427F-85B2-544647D8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D2C-FB78-4F92-A945-E1096BB5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570-DABA-403F-A6EB-10FB0D8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6B7-8713-4E00-98B5-A1A1BA28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2AE-0310-45C6-9E74-E9B6871C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371D-84EE-4F2C-BA26-F986D4ED2EC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9039-1FB2-49AB-8691-70975DA871F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7232-B95B-4187-8B87-E710CF889A2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5919-E0A3-4F23-846E-F370431D98E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ifferentiated Instruction for Teaching in the Block Schedul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ane Hubon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hris Sing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rie Strong Vinc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ssion #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cember 7, 201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now Make-up Day: January 25, 201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Project Carousel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Trebuchet MS"/>
              </a:rPr>
              <a:t>Inside/Outside Circle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5013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Evaluation Form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o-facilitators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Diane Hubon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hris Singler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PLN 13—Erie Strong Vincen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od For Thought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90360"/>
            <a:ext cx="6500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at we need is a shift from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contr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in learning to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assuranc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. Traditional approaches to instruction and assessment involve teaching some given material, and then, at the end of teaching, working out who has and hasn't learned it—akin to a quality control approach in manufacturing. In contrast, assessment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or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learning involves adjusting teaching as needed while the learning is still taking place—a quality assurance approach. Quality assurance also involves a shift of attention from teaching to learning. The emphasis is on what the students are getting out of the process rather than on what teachers are putting into i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-Dylan Wilia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5" descr="PIIC_Logo_tag"/>
          <p:cNvPicPr/>
          <p:nvPr/>
        </p:nvPicPr>
        <p:blipFill>
          <a:blip r:embed="rId1"/>
          <a:stretch/>
        </p:blipFill>
        <p:spPr>
          <a:xfrm>
            <a:off x="7391520" y="5813280"/>
            <a:ext cx="914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llins 10% Summar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Highlight 10 words in the Wiliam quote that impact your role as teacher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4" descr="MC900389286[1]"/>
          <p:cNvPicPr/>
          <p:nvPr/>
        </p:nvPicPr>
        <p:blipFill>
          <a:blip r:embed="rId1"/>
          <a:stretch/>
        </p:blipFill>
        <p:spPr>
          <a:xfrm>
            <a:off x="6434280" y="3505320"/>
            <a:ext cx="273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lease Do Now: Assessment Match!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5" descr="j0439533"/>
          <p:cNvPicPr/>
          <p:nvPr/>
        </p:nvPicPr>
        <p:blipFill>
          <a:blip r:embed="rId1"/>
          <a:stretch/>
        </p:blipFill>
        <p:spPr>
          <a:xfrm>
            <a:off x="1600200" y="1884240"/>
            <a:ext cx="6172200" cy="410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IIC_Logo_tag"/>
          <p:cNvPicPr/>
          <p:nvPr/>
        </p:nvPicPr>
        <p:blipFill>
          <a:blip r:embed="rId2"/>
          <a:stretch/>
        </p:blipFill>
        <p:spPr>
          <a:xfrm>
            <a:off x="7696080" y="5616720"/>
            <a:ext cx="12369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rmative Assessmen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aking the Pulse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nowledge rat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o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nder Constru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i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4" descr="MC900366618[1]"/>
          <p:cNvPicPr/>
          <p:nvPr/>
        </p:nvPicPr>
        <p:blipFill>
          <a:blip r:embed="rId1"/>
          <a:stretch/>
        </p:blipFill>
        <p:spPr>
          <a:xfrm>
            <a:off x="5638680" y="1371600"/>
            <a:ext cx="132264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PIIC_Logo_tag"/>
          <p:cNvPicPr/>
          <p:nvPr/>
        </p:nvPicPr>
        <p:blipFill>
          <a:blip r:embed="rId2"/>
          <a:stretch/>
        </p:blipFill>
        <p:spPr>
          <a:xfrm>
            <a:off x="7315200" y="533412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ext Rend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ormative Assessment Articl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3 V.I.P.’s   very important poin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ble Talk   reach a group consens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1 M.V.P.   Most valuable poi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ase for Formative Assessment: Assessment for Lear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096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deo Clip—Dylan Wili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 Cha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I Hear/ What I Thin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6" descr="PIIC_Logo_tag"/>
          <p:cNvPicPr/>
          <p:nvPr/>
        </p:nvPicPr>
        <p:blipFill>
          <a:blip r:embed="rId1"/>
          <a:stretch/>
        </p:blipFill>
        <p:spPr>
          <a:xfrm>
            <a:off x="6248520" y="4343400"/>
            <a:ext cx="20174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ake Ten Ste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6348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Jot-a-Thoug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iscuss one thought you have concerning formative assessment as it relates to the video clip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ke ten steps to someone you do not know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air/Share Partners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4" descr="PIIC_Logo_tag"/>
          <p:cNvPicPr/>
          <p:nvPr/>
        </p:nvPicPr>
        <p:blipFill>
          <a:blip r:embed="rId1"/>
          <a:stretch/>
        </p:blipFill>
        <p:spPr>
          <a:xfrm>
            <a:off x="7543800" y="5692680"/>
            <a:ext cx="1085760" cy="928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MM900284097[1]"/>
          <p:cNvPicPr/>
          <p:nvPr/>
        </p:nvPicPr>
        <p:blipFill>
          <a:blip r:embed="rId2"/>
          <a:stretch/>
        </p:blipFill>
        <p:spPr>
          <a:xfrm>
            <a:off x="7238880" y="533520"/>
            <a:ext cx="542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Instructional Strategies Sorting Ac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d light/yellow light/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4" descr="MC900433882[1]"/>
          <p:cNvPicPr/>
          <p:nvPr/>
        </p:nvPicPr>
        <p:blipFill>
          <a:blip r:embed="rId1"/>
          <a:stretch/>
        </p:blipFill>
        <p:spPr>
          <a:xfrm>
            <a:off x="304812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PIIC_Logo_tag"/>
          <p:cNvPicPr/>
          <p:nvPr/>
        </p:nvPicPr>
        <p:blipFill>
          <a:blip r:embed="rId2"/>
          <a:stretch/>
        </p:blipFill>
        <p:spPr>
          <a:xfrm>
            <a:off x="7162920" y="5376960"/>
            <a:ext cx="12556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0:07:28Z</dcterms:created>
  <dc:creator>Ken</dc:creator>
  <dc:description/>
  <dc:language>en-US</dc:language>
  <cp:lastModifiedBy>Ken</cp:lastModifiedBy>
  <dcterms:modified xsi:type="dcterms:W3CDTF">2014-01-24T01:33:14Z</dcterms:modified>
  <cp:revision>10</cp:revision>
  <dc:subject/>
  <dc:title>Differentiated Instructional for Teaching in the Block Schedule</dc:title>
</cp:coreProperties>
</file>