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D67-78F0-4D9C-8C92-646DB929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3E1-3D66-4C41-9FAB-FDCD7F43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093-FC2F-4D65-9B7A-F21CA019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D19-BD8C-4E9A-9A50-5C54869D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5156-E3BA-48CB-BDD3-1B534AC9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5FFB-2B7B-4C06-A660-078E18F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CD93-458C-4E64-8D01-C966E302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2260-BAD4-42B0-8EEC-28238667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8E4B-1753-4E33-A5E1-A6C698B0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1C7F-182B-4D0A-954E-3AAE1348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5FCA-7D66-44A3-A185-D0B698A1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DED-E0B0-45A0-BECE-50C428A5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D818-1005-4953-AA65-ADEDE4AE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E779-E9C2-4292-BEB9-2D227FDC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5F71-3369-4B57-B060-4FFC7427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C5CD-4C44-4F2B-9155-224571BB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83F1-6F0E-4F26-9E88-0AD1B803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CB5F-77D8-4A8E-9BC4-5BAAB1E3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3165-3073-4336-BD65-A1F869E7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DD400-7268-45C4-BCF3-DC564A56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032B1-C1DC-4828-AEC7-C4EE00A2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88C1-01CE-437D-99F0-A819BEA3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8E4-F5D8-46AD-805A-9B1CCAD5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4907-6C8F-4DE9-AA32-97116E13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E912-7A1D-4928-9212-9421731F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ADE6-D628-4506-92FE-72D58CC8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F665-14CD-44A3-92FB-9B1DAAF7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5E3A1-5A8D-41EC-9C3A-65B627C1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7CD4C-DDE0-4EB6-A222-068269E0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D8D8-5638-4054-9F6A-0D5DC8B5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D8643-E219-4D69-AFCD-AC402762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74981-3B99-4F9E-9319-E5F95A6F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FAE3E-0A9F-46E8-B669-7FDCD51D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7E3-3BCD-4DA0-A8C6-784723BC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CB915-3004-4B50-A302-9444D8A7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BE8C4-9C0C-42EE-A045-2044D7A9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DC837-F6A6-47AF-9576-CA80F6CA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C197A-D367-4061-A86B-0D134DCD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C9C37-55DB-4806-9142-CE973112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161DB-774F-40AC-A1F3-58E53266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2D05-7F6A-48A1-B73C-A5B4497C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61791-AF02-485D-9FA6-DDC8F789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88261-72B6-4492-84E1-FD2F0A4B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185-FEF5-4A6A-A1C1-A1256EE1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9B3-0E35-4C92-94ED-700EC558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345-2D68-4E0D-A8BE-CDF4EFA4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991-5320-4A38-86C7-FD5A041A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790-66B3-4242-A2D5-CF7F5BC1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5402-BFFC-4168-B576-04ECDF49749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94BB-1D8F-4368-8CCE-CC91CF8F03F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4AA5-8418-4309-AF3D-FFCA3F5D31D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3FB6-84E2-4B44-9668-68B5924CB56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Differentiated Instruction for Teaching in the Block Schedul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ane Hubon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hris Sing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rie Strong Vinc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ssion #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cember 7, 201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now Make-up Day: January 25, 201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inal Project Carousel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Trebuchet MS"/>
              </a:rPr>
              <a:t>Inside/Outside Circle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5013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inal Evaluation Form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Co-facilitators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Diane Hubon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Chris Singler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PLN 13—Erie Strong Vincent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ood For Thought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90360"/>
            <a:ext cx="6500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What we need is a shift from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quality control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 in learning to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quality assuranc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. Traditional approaches to instruction and assessment involve teaching some given material, and then, at the end of teaching, working out who has and hasn't learned it—akin to a quality control approach in manufacturing. In contrast, assessment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or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 learning involves adjusting teaching as needed while the learning is still taking place—a quality assurance approach. Quality assurance also involves a shift of attention from teaching to learning. The emphasis is on what the students are getting out of the process rather than on what teachers are putting into i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-Dylan Wilia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5" descr="PIIC_Logo_tag"/>
          <p:cNvPicPr/>
          <p:nvPr/>
        </p:nvPicPr>
        <p:blipFill>
          <a:blip r:embed="rId1"/>
          <a:stretch/>
        </p:blipFill>
        <p:spPr>
          <a:xfrm>
            <a:off x="7391520" y="5813280"/>
            <a:ext cx="914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llins 10% Summar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Highlight 10 words in the Wiliam quote that impact your role as teacher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4" descr="MC900389286[1]"/>
          <p:cNvPicPr/>
          <p:nvPr/>
        </p:nvPicPr>
        <p:blipFill>
          <a:blip r:embed="rId1"/>
          <a:stretch/>
        </p:blipFill>
        <p:spPr>
          <a:xfrm>
            <a:off x="6434280" y="3505320"/>
            <a:ext cx="273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lease Do Now: Assessment Match!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Picture 5" descr="j0439533"/>
          <p:cNvPicPr/>
          <p:nvPr/>
        </p:nvPicPr>
        <p:blipFill>
          <a:blip r:embed="rId1"/>
          <a:stretch/>
        </p:blipFill>
        <p:spPr>
          <a:xfrm>
            <a:off x="1600200" y="1884240"/>
            <a:ext cx="6172200" cy="4108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IIC_Logo_tag"/>
          <p:cNvPicPr/>
          <p:nvPr/>
        </p:nvPicPr>
        <p:blipFill>
          <a:blip r:embed="rId2"/>
          <a:stretch/>
        </p:blipFill>
        <p:spPr>
          <a:xfrm>
            <a:off x="7696080" y="5616720"/>
            <a:ext cx="123696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ormative Assessmen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aking the Pulse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nowledge rat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o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nder Constru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i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ree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4" descr="MC900366618[1]"/>
          <p:cNvPicPr/>
          <p:nvPr/>
        </p:nvPicPr>
        <p:blipFill>
          <a:blip r:embed="rId1"/>
          <a:stretch/>
        </p:blipFill>
        <p:spPr>
          <a:xfrm>
            <a:off x="5638680" y="1371600"/>
            <a:ext cx="132264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PIIC_Logo_tag"/>
          <p:cNvPicPr/>
          <p:nvPr/>
        </p:nvPicPr>
        <p:blipFill>
          <a:blip r:embed="rId2"/>
          <a:stretch/>
        </p:blipFill>
        <p:spPr>
          <a:xfrm>
            <a:off x="7315200" y="533412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ext Rend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Formative Assessment Articl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***3 V.I.P.’s   very important poin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ble Talk   reach a group consens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***1 M.V.P.   Most valuable poi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ase for Formative Assessment: Assessment for Lear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096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deo Clip—Dylan Wili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 Cha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I Hear/ What I Thin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6" descr="PIIC_Logo_tag"/>
          <p:cNvPicPr/>
          <p:nvPr/>
        </p:nvPicPr>
        <p:blipFill>
          <a:blip r:embed="rId1"/>
          <a:stretch/>
        </p:blipFill>
        <p:spPr>
          <a:xfrm>
            <a:off x="6248520" y="4343400"/>
            <a:ext cx="20174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ake Ten Ste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63486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Jot-a-Thoug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iscuss one thought you have concerning formative assessment as it relates to the video clip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ke ten steps to someone you do not know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air/Share Partners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4" descr="PIIC_Logo_tag"/>
          <p:cNvPicPr/>
          <p:nvPr/>
        </p:nvPicPr>
        <p:blipFill>
          <a:blip r:embed="rId1"/>
          <a:stretch/>
        </p:blipFill>
        <p:spPr>
          <a:xfrm>
            <a:off x="7543800" y="5692680"/>
            <a:ext cx="1085760" cy="928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MM900284097[1]"/>
          <p:cNvPicPr/>
          <p:nvPr/>
        </p:nvPicPr>
        <p:blipFill>
          <a:blip r:embed="rId2"/>
          <a:stretch/>
        </p:blipFill>
        <p:spPr>
          <a:xfrm>
            <a:off x="7238880" y="533520"/>
            <a:ext cx="542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Instructional Strategies Sorting Ac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d light/yellow light/gree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4" descr="MC900433882[1]"/>
          <p:cNvPicPr/>
          <p:nvPr/>
        </p:nvPicPr>
        <p:blipFill>
          <a:blip r:embed="rId1"/>
          <a:stretch/>
        </p:blipFill>
        <p:spPr>
          <a:xfrm>
            <a:off x="3048120" y="2590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PIIC_Logo_tag"/>
          <p:cNvPicPr/>
          <p:nvPr/>
        </p:nvPicPr>
        <p:blipFill>
          <a:blip r:embed="rId2"/>
          <a:stretch/>
        </p:blipFill>
        <p:spPr>
          <a:xfrm>
            <a:off x="7162920" y="5376960"/>
            <a:ext cx="12556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0:07:28Z</dcterms:created>
  <dc:creator>Ken</dc:creator>
  <dc:description/>
  <dc:language>en-US</dc:language>
  <cp:lastModifiedBy>Ken</cp:lastModifiedBy>
  <dcterms:modified xsi:type="dcterms:W3CDTF">2014-01-24T01:33:14Z</dcterms:modified>
  <cp:revision>10</cp:revision>
  <dc:subject/>
  <dc:title>Differentiated Instructional for Teaching in the Block Schedule</dc:title>
</cp:coreProperties>
</file>