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3FC-6F68-4743-A871-BA5B64CA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9C2-9EA7-4DAC-9DB4-698AE05D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00FD-4BCD-4C3B-86D7-86042F27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544-F711-4897-B717-AF291946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2264-C136-4FAF-8133-32DFF8C2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84AD-7942-4931-A2F8-120505B7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32C0-A24E-43A7-B1B5-252C8201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7A44-7285-49EA-BCC7-721074BA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BDDF-CC82-41D3-B259-BB22B365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9103-76BD-4CBE-9A58-A0FA470E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17B9-CE28-493C-815C-042A572E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554-EBCE-4248-97F6-354A9D99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4B39-0E96-47D3-9AFB-CB295D75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32C0-81D2-4A74-80E9-67D7A765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8D6D-4ABE-4606-8C79-C9A0E0C2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EA86-7BDF-4C40-B783-899ED872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586B-FA16-4A6E-AA7C-140EF85C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FAFFC-2674-4F61-B9DF-8E328152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64C1D-C8EE-4159-A897-DD09E13B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22C8-5ABA-407F-9366-FDBBE87F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7B2AB-C9BE-4308-85AF-9DF04A3B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6C1C0-92E4-4262-BE0D-9213A4BE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F3C-97F1-47DA-8952-5427EB8C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64911-0206-4E82-A968-7FBDA403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43D5E-2CFB-4A5E-8FAC-95FFAF10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93A08-E6B4-463D-B776-29132F7E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3680-E2DE-4943-A63D-696BA870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3BAB-8892-4E5D-82A6-8A0FCCBF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EFD62-08AD-47FD-BE14-771C8BFD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29FBD-F9DA-484C-8A03-6F80D4F9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6D627-1FCE-4E57-8EAE-C0F66D10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8BE2A-720E-4423-90C6-43ED2A28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768A6-6042-4D3C-A6A1-102ADF7C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66E-F015-4DEF-883D-7D1B2486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EF74B-220A-4AB7-A7A9-2C39091E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D9C6-EC04-42F3-A967-BFE3583D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A541D-CFFA-4718-A8D1-5BA27434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91620-888E-4337-8625-D44A8B72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51FF5-7944-4A3D-989B-8D30C607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2C33E-97C5-47B1-BA33-0429D0D6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01E51-DD18-48E3-BF6D-6F6A6B38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BDB34-3BED-462B-8DFE-9D4D1F50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46885-82D2-4CF5-9154-A42300E6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A74-76C9-4DBD-8092-D3C0AC8D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AA7-407C-4916-A695-06FA6A38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FAA-BA5C-4279-8321-941B0287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D72-25DC-4616-A436-7173A40E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FE5-1CBD-4259-8A60-CC282D0D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CA9E-F2BC-4A64-9B2E-5D9EF1F6627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4F7E-33B1-409B-8518-DAC895E0BC9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BE2A-1BC6-430D-AA88-CB4D28AF4E4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67FE-8384-4940-9432-FEA1390B9F1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Differentiated Instruction for Teaching in the Block Schedul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ane Hubon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hris Sing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rie Strong Vinc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ssion #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cember 7, 201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now Make-up Day: January 25, 201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inal Project Carousel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Trebuchet MS"/>
              </a:rPr>
              <a:t>Inside/Outside Circle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5013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inal Evaluation Form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Co-facilitators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Diane Hubona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Chris Singler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PLN 13—Erie Strong Vincent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ood For Thought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90360"/>
            <a:ext cx="6500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What we need is a shift from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quality control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 in learning to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quality assuranc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. Traditional approaches to instruction and assessment involve teaching some given material, and then, at the end of teaching, working out who has and hasn't learned it—akin to a quality control approach in manufacturing. In contrast, assessment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for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 learning involves adjusting teaching as needed while the learning is still taking place—a quality assurance approach. Quality assurance also involves a shift of attention from teaching to learning. The emphasis is on what the students are getting out of the process rather than on what teachers are putting into i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-Dylan Wilia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5" descr="PIIC_Logo_tag"/>
          <p:cNvPicPr/>
          <p:nvPr/>
        </p:nvPicPr>
        <p:blipFill>
          <a:blip r:embed="rId1"/>
          <a:stretch/>
        </p:blipFill>
        <p:spPr>
          <a:xfrm>
            <a:off x="7391520" y="5813280"/>
            <a:ext cx="914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llins 10% Summar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Highlight 10 words in the Wiliam quote that impact your role as teacher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4" descr="MC900389286[1]"/>
          <p:cNvPicPr/>
          <p:nvPr/>
        </p:nvPicPr>
        <p:blipFill>
          <a:blip r:embed="rId1"/>
          <a:stretch/>
        </p:blipFill>
        <p:spPr>
          <a:xfrm>
            <a:off x="6434280" y="3505320"/>
            <a:ext cx="273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lease Do Now: Assessment Match!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Picture 5" descr="j0439533"/>
          <p:cNvPicPr/>
          <p:nvPr/>
        </p:nvPicPr>
        <p:blipFill>
          <a:blip r:embed="rId1"/>
          <a:stretch/>
        </p:blipFill>
        <p:spPr>
          <a:xfrm>
            <a:off x="1600200" y="1884240"/>
            <a:ext cx="6172200" cy="4108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IIC_Logo_tag"/>
          <p:cNvPicPr/>
          <p:nvPr/>
        </p:nvPicPr>
        <p:blipFill>
          <a:blip r:embed="rId2"/>
          <a:stretch/>
        </p:blipFill>
        <p:spPr>
          <a:xfrm>
            <a:off x="7696080" y="5616720"/>
            <a:ext cx="123696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ormative Assessmen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aking the Pulse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nowledge rat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o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nder Constru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i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reen Lig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4" descr="MC900366618[1]"/>
          <p:cNvPicPr/>
          <p:nvPr/>
        </p:nvPicPr>
        <p:blipFill>
          <a:blip r:embed="rId1"/>
          <a:stretch/>
        </p:blipFill>
        <p:spPr>
          <a:xfrm>
            <a:off x="5638680" y="1371600"/>
            <a:ext cx="132264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PIIC_Logo_tag"/>
          <p:cNvPicPr/>
          <p:nvPr/>
        </p:nvPicPr>
        <p:blipFill>
          <a:blip r:embed="rId2"/>
          <a:stretch/>
        </p:blipFill>
        <p:spPr>
          <a:xfrm>
            <a:off x="7315200" y="533412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ext Rend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Formative Assessment Articl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***3 V.I.P.’s   very important poin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able Talk   reach a group consensu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***1 M.V.P.   Most valuable poi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Case for Formative Assessment: Assessment for Learn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096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deo Clip—Dylan Wilia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 Cha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I Hear/ What I Thin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6" descr="PIIC_Logo_tag"/>
          <p:cNvPicPr/>
          <p:nvPr/>
        </p:nvPicPr>
        <p:blipFill>
          <a:blip r:embed="rId1"/>
          <a:stretch/>
        </p:blipFill>
        <p:spPr>
          <a:xfrm>
            <a:off x="6248520" y="4343400"/>
            <a:ext cx="20174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ake Ten Ste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63486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Jot-a-Though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Discuss one thought you have concerning formative assessment as it relates to the video clip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ake ten steps to someone you do not know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Pair/Share Partners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4" descr="PIIC_Logo_tag"/>
          <p:cNvPicPr/>
          <p:nvPr/>
        </p:nvPicPr>
        <p:blipFill>
          <a:blip r:embed="rId1"/>
          <a:stretch/>
        </p:blipFill>
        <p:spPr>
          <a:xfrm>
            <a:off x="7543800" y="5692680"/>
            <a:ext cx="1085760" cy="928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MM900284097[1]"/>
          <p:cNvPicPr/>
          <p:nvPr/>
        </p:nvPicPr>
        <p:blipFill>
          <a:blip r:embed="rId2"/>
          <a:stretch/>
        </p:blipFill>
        <p:spPr>
          <a:xfrm>
            <a:off x="7238880" y="533520"/>
            <a:ext cx="542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Instructional Strategies Sorting Activity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d light/yellow light/green lig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Picture 4" descr="MC900433882[1]"/>
          <p:cNvPicPr/>
          <p:nvPr/>
        </p:nvPicPr>
        <p:blipFill>
          <a:blip r:embed="rId1"/>
          <a:stretch/>
        </p:blipFill>
        <p:spPr>
          <a:xfrm>
            <a:off x="3048120" y="2590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PIIC_Logo_tag"/>
          <p:cNvPicPr/>
          <p:nvPr/>
        </p:nvPicPr>
        <p:blipFill>
          <a:blip r:embed="rId2"/>
          <a:stretch/>
        </p:blipFill>
        <p:spPr>
          <a:xfrm>
            <a:off x="7162920" y="5376960"/>
            <a:ext cx="12556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0:07:28Z</dcterms:created>
  <dc:creator>Ken</dc:creator>
  <dc:description/>
  <dc:language>en-US</dc:language>
  <cp:lastModifiedBy>Ken</cp:lastModifiedBy>
  <dcterms:modified xsi:type="dcterms:W3CDTF">2014-01-24T01:33:14Z</dcterms:modified>
  <cp:revision>10</cp:revision>
  <dc:subject/>
  <dc:title>Differentiated Instructional for Teaching in the Block Schedule</dc:title>
</cp:coreProperties>
</file>