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FDA-2AD4-493F-AC67-0EE527BE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EED-28D9-4BDC-B3B8-878DBB71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673-D916-429F-A157-1B95181D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2C4-4FA5-498E-BEF5-1E46CB86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22D4-25F0-4C12-9534-C1429BAA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73AF-CBDF-4F23-8068-6C657AEF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4EA7-EC9D-4E0B-A855-69AC3193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E5C8-7041-43DB-9632-348A30CA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F1E-A08D-4956-A530-9661C34B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1576-AACF-497E-BE29-C4AB9282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B4A-1223-44A0-A064-5C7BE87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4EA-DE42-45C3-9AF9-ED599EFE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9605-DC45-4E75-A014-1B6FC33F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293E-01DE-4862-B9B2-C4DA9350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F351-0677-438D-9874-75A497B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DE19-371A-41F0-91E8-E0B4C4E6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25D7-8002-47C0-B3B4-28C44201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2A17-6578-4591-B4D9-A583A2ED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B1F6-116F-4B84-8B13-9255BDB3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38D69-CFF5-402A-B737-7765355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372E-A370-4854-84D1-32F90E06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AB73-9689-42F7-90BD-78BA6C90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37F-8B46-4C55-93CA-5A7103DD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B16B-7681-43C0-9B0A-E0D2309D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54DB-A999-4033-851A-0098DB94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101E-C832-4075-8BA7-D5ADD1AE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FB33-5E0A-4333-9CB3-E4073B4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C525-580F-4685-B5D7-30651D4A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E58B-389F-48D2-B402-7B9F65D4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E52E-A1EA-492D-909E-360C76FF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045E-12FE-455A-B158-C721ED6B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FD8D2-3101-4452-9496-8ABE48CF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8C577-E4E7-4CDE-9398-A9654108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292-78C4-46CF-8568-5246BB75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0409-C981-4189-B4F5-A25CE287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BA6A1-0FCC-4948-AB98-68AB0D6F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2978-38E8-4F8E-A1D6-71E05D7E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0BC3-F489-4E16-B5CC-51309491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8F2C-9093-4030-B564-C1D584C9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FDA7-28BB-454F-9A5B-4BDC835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8441-4B46-47E8-8596-355E1735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627A-23B6-48F8-B94B-E6FB9113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CAE1-A952-4FC5-A9F2-ECE2BA01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34C-68EF-4775-B4DD-0FCD3912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680-D002-4F6E-8AAE-AD9A9858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EAC-7A72-4190-9D96-8F3F8265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DF8-3C39-449E-8EC3-FE1E59C0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C61-0773-4A74-B8D0-D1A2AA5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CEB0-24C9-4536-A0E3-AF16FE671DF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F8F0-6887-4C01-B347-730ADC69138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E4B7-D09B-484A-B056-CBEB106D4B5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5C4-03E7-4EE8-9722-8BEC63FBA0D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ifferentiated Instruction for Teaching in the Block Schedul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ane Hubon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hris Sing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rie Strong Vinc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ssion #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cember 7, 20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now Make-up Day: January 25, 201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Project Carousel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Trebuchet MS"/>
              </a:rPr>
              <a:t>Inside/Outside Circle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5013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Evaluation Form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o-facilitators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iane Hubon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hris Singler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PLN 13—Erie Strong Vincen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od For Thought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90360"/>
            <a:ext cx="6500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we need is a shift from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contr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in learning to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assuranc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. Traditional approaches to instruction and assessment involve teaching some given material, and then, at the end of teaching, working out who has and hasn't learned it—akin to a quality control approach in manufacturing. In contrast, assessment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learning involves adjusting teaching as needed while the learning is still taking place—a quality assurance approach. Quality assurance also involves a shift of attention from teaching to learning. The emphasis is on what the students are getting out of the process rather than on what teachers are putting into i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-Dylan Wilia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5" descr="PIIC_Logo_tag"/>
          <p:cNvPicPr/>
          <p:nvPr/>
        </p:nvPicPr>
        <p:blipFill>
          <a:blip r:embed="rId1"/>
          <a:stretch/>
        </p:blipFill>
        <p:spPr>
          <a:xfrm>
            <a:off x="7391520" y="5813280"/>
            <a:ext cx="914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llins 10% Summar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Highlight 10 words in the Wiliam quote that impact your role as teacher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4" descr="MC900389286[1]"/>
          <p:cNvPicPr/>
          <p:nvPr/>
        </p:nvPicPr>
        <p:blipFill>
          <a:blip r:embed="rId1"/>
          <a:stretch/>
        </p:blipFill>
        <p:spPr>
          <a:xfrm>
            <a:off x="6434280" y="3505320"/>
            <a:ext cx="273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lease Do Now: Assessment Match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5" descr="j0439533"/>
          <p:cNvPicPr/>
          <p:nvPr/>
        </p:nvPicPr>
        <p:blipFill>
          <a:blip r:embed="rId1"/>
          <a:stretch/>
        </p:blipFill>
        <p:spPr>
          <a:xfrm>
            <a:off x="1600200" y="1884240"/>
            <a:ext cx="6172200" cy="410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IIC_Logo_tag"/>
          <p:cNvPicPr/>
          <p:nvPr/>
        </p:nvPicPr>
        <p:blipFill>
          <a:blip r:embed="rId2"/>
          <a:stretch/>
        </p:blipFill>
        <p:spPr>
          <a:xfrm>
            <a:off x="7696080" y="5616720"/>
            <a:ext cx="12369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rmative Assessm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king the Pulse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nowledge rat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o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nder Constru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i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MC900366618[1]"/>
          <p:cNvPicPr/>
          <p:nvPr/>
        </p:nvPicPr>
        <p:blipFill>
          <a:blip r:embed="rId1"/>
          <a:stretch/>
        </p:blipFill>
        <p:spPr>
          <a:xfrm>
            <a:off x="5638680" y="1371600"/>
            <a:ext cx="132264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PIIC_Logo_tag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ext Rend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ormative Assessment Articl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3 V.I.P.’s   very important poi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ble Talk   reach a group consens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1 M.V.P.   Most valuable poi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ase for Formative Assessment: Assessment for Lear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096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deo Clip—Dylan Wili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 Cha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I Hear/ What I Thin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6" descr="PIIC_Logo_tag"/>
          <p:cNvPicPr/>
          <p:nvPr/>
        </p:nvPicPr>
        <p:blipFill>
          <a:blip r:embed="rId1"/>
          <a:stretch/>
        </p:blipFill>
        <p:spPr>
          <a:xfrm>
            <a:off x="6248520" y="4343400"/>
            <a:ext cx="20174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ake Ten Ste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6348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Jot-a-Thoug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iscuss one thought you have concerning formative assessment as it relates to the video cli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ke ten steps to someone you do not know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air/Share Partners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4" descr="PIIC_Logo_tag"/>
          <p:cNvPicPr/>
          <p:nvPr/>
        </p:nvPicPr>
        <p:blipFill>
          <a:blip r:embed="rId1"/>
          <a:stretch/>
        </p:blipFill>
        <p:spPr>
          <a:xfrm>
            <a:off x="7543800" y="5692680"/>
            <a:ext cx="1085760" cy="928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M900284097[1]"/>
          <p:cNvPicPr/>
          <p:nvPr/>
        </p:nvPicPr>
        <p:blipFill>
          <a:blip r:embed="rId2"/>
          <a:stretch/>
        </p:blipFill>
        <p:spPr>
          <a:xfrm>
            <a:off x="7238880" y="533520"/>
            <a:ext cx="542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Instructional Strategies Sorting Ac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 light/yellow light/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4" descr="MC900433882[1]"/>
          <p:cNvPicPr/>
          <p:nvPr/>
        </p:nvPicPr>
        <p:blipFill>
          <a:blip r:embed="rId1"/>
          <a:stretch/>
        </p:blipFill>
        <p:spPr>
          <a:xfrm>
            <a:off x="304812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PIIC_Logo_tag"/>
          <p:cNvPicPr/>
          <p:nvPr/>
        </p:nvPicPr>
        <p:blipFill>
          <a:blip r:embed="rId2"/>
          <a:stretch/>
        </p:blipFill>
        <p:spPr>
          <a:xfrm>
            <a:off x="7162920" y="5376960"/>
            <a:ext cx="12556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0:07:28Z</dcterms:created>
  <dc:creator>Ken</dc:creator>
  <dc:description/>
  <dc:language>en-US</dc:language>
  <cp:lastModifiedBy>Ken</cp:lastModifiedBy>
  <dcterms:modified xsi:type="dcterms:W3CDTF">2014-01-24T01:33:14Z</dcterms:modified>
  <cp:revision>10</cp:revision>
  <dc:subject/>
  <dc:title>Differentiated Instructional for Teaching in the Block Schedule</dc:title>
</cp:coreProperties>
</file>