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66B-5037-4DA7-9437-3D85329E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FB7-8670-407A-9CF3-98C51B75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0C5-B170-4CEF-90A7-43EAD1EB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550-DC44-4BB7-9442-4327EB15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8EF2-3FDD-4F97-AA5E-FA38B77F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3664-357C-4962-BF14-AF3C76E8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A28F-CD9B-48DC-A1A4-C9729DCE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B100-CCFD-42F1-A33B-F41EEDFB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1DBC-5362-44E8-A150-A45D90D7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6C73-7B9E-4981-B526-1179EEFD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AD18-4E1A-4B45-AE5A-ED102FA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175-5D75-4339-A609-BE69998A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8459-41E7-41F8-BE55-02ED36E4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8160-0713-425C-A272-892DAE18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90D7-0278-46A2-A9AA-A63C2ACB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E04A-1F1F-428A-829C-CDBA4D16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2DC3-B3CB-43AD-8743-5BDB6606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781-A427-4070-9978-A34DBB97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627-9FF6-48B6-A7F0-C2E4FB78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25C-2AC6-41BE-8EEC-FDE8BE10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260-6887-408B-9E2B-95057056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189-BCC6-4D08-A525-DF24260E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77B-25E8-4EE9-813E-FFCB1146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1D6-FE72-4FAB-BFBF-8E4F16A7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DE4C-A4C5-47C6-95E8-64A964CDD8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D8DA-CC75-4DCF-9721-F1EA26B16C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elcome Back!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LN 1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ssion #4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fflin County S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tember 19, 201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e Sheets for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tfall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Abou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 Role She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ord Finde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uotation Fin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ummariz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The Be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by Anton Chekho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the literature circles template, complete two items for each of the 4 roles to prepare for a group discussio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rpose in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The Hous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19875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iting With a Purpos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Introducing the I-Search Paper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Pp. 206-207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t’s Take a Look at the Structure of the I-Searc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mparison/Contrast Char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BDA Les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Pages 97-103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Hiroshim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gumentative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ument vs. Persuasion vs. Opi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Lunchroom Murde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8387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ave PLN 1 final project comple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rite a reflective 1-2 page essay discussing three ways you have changed your classroom instruc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rticle of your cho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Taking the Puls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that you’re back in the classroom, what song title best describes your attitud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ye of the Ti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Under Pres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enter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ridge Over Troubled Wa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Music"/>
          <p:cNvSpPr/>
          <p:nvPr/>
        </p:nvSpPr>
        <p:spPr>
          <a:xfrm>
            <a:off x="6400800" y="4419720"/>
            <a:ext cx="1809720" cy="1752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e You in Octob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266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Rewin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p predictors of student achie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ir/Sh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use, Pounce, Bou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ne Success, One Strug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proves to be successful in your teac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you used that still needs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ading, Writing, Speaking, Listen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y Reflection Tryou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did I try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 did it go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would I change if I did it again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lease Do Now…Reading Practi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Activities Respo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22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gor in Reading and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w do we get ther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ir/Sha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mall Group Discuss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cratic Semin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Get Started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otation Mi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 Up, Pair Up, Share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ayer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Literature Circle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haracteristic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on-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23:17:15Z</dcterms:created>
  <dc:creator>Ken</dc:creator>
  <dc:description/>
  <dc:language>en-US</dc:language>
  <cp:lastModifiedBy>Ken</cp:lastModifiedBy>
  <dcterms:modified xsi:type="dcterms:W3CDTF">2015-09-19T00:04:22Z</dcterms:modified>
  <cp:revision>2</cp:revision>
  <dc:subject/>
  <dc:title>Welcome Back! PLN 1 Session #4</dc:title>
</cp:coreProperties>
</file>