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38C-F27F-4EF8-8F9B-3E59FF61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969-AE4D-43D4-8BEB-E465FF97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E75-086E-4B67-AD84-65FF9BA6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74C-2893-439C-9767-3B9CD22B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E2C3-A3B9-48C0-A4E0-0E535858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0DB2-FDF1-42CB-8DBA-B043332E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5D25-C454-4070-8B65-3D7E0075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B772-BFDA-4ACC-AC00-91EFC74A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E0E1-3C48-4250-BF20-0ACF0E9B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0CB1-0286-4CD3-A8BD-65A502EA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51A7-0E76-4A74-AF5A-317C2AE0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26D-06D4-4394-AA04-645646ED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BC13-6743-4591-9FDE-1C2CE7F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CF20-13A8-4389-BA94-FE0F646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EDF5-BD2B-43F3-8549-80199810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64C9-FACF-4A8E-B005-6E49A812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FF4A-914E-4612-83D6-52ACB1D2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A19-6EB8-4B82-8298-BF50A689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B4B-3AD7-43BD-A804-DE3CECFC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063-BA71-4E4C-ABD2-093379C8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366-9473-42E0-B6C4-5DAF9C8B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2C9-A46C-46A7-8FD1-8EB056F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B51-F34C-4DA9-9AED-94B80EB4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EAB-369A-40C0-8EE7-73277C2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DC18-5D8C-4CD0-835D-4DDF6560AA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F9ED-AAAA-4037-A379-E7E2F2B7D7B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elcome Back!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LN 1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ssion #4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fflin County S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tember 19, 2015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e Sheets for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tfall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 Role Sh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ord Finder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otation Fin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mmariz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The Be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by Anton Chekho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the literature circles template, complete two items for each of the 4 roles to prepare for a group discuss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in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The Hous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3733920"/>
            <a:ext cx="19875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iting With a Purpos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Introducing the I-Search Paper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Pp. 206-207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et’s Take a Look at the Structure of the I-Sear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omparison/Contrast Char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BDA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Pages 97-103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Hiroshima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gumentative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 vs. Persuasion vs. Opi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Lunchroom Murder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8387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ave PLN 1 final project comple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rite a reflective 1-2 page essay discussing three ways you have changed your classroom instruc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rticle of your choi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Taking the Puls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that you’re back in the classroom, what song title best describes your attitud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ye of the Ti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Under Pres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enterfi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ridge Over Troubled W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Music"/>
          <p:cNvSpPr/>
          <p:nvPr/>
        </p:nvSpPr>
        <p:spPr>
          <a:xfrm>
            <a:off x="6400800" y="4419720"/>
            <a:ext cx="1809720" cy="1752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e You in Octob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66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Rew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p predictors of student achie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ir/Sh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ause, Pounce, Bou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One Success, One Strug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proves to be successful in your teach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ne strategy that you used that still needs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ading, Writing, Speaking, List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ategy Reflection Tryou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did I try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 did it go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What would I change if I did it again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ease Do Now…Reading Practi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Activities Respo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ge 22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gor in Reading and 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ow do we get ther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air/Sha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mall Group Discuss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cratic Semin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Get Started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ture Circ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otation M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 Up, Pair Up, Share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ayer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Literature Circle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haracteristic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on-Exampl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23:17:15Z</dcterms:created>
  <dc:creator>Ken</dc:creator>
  <dc:description/>
  <dc:language>en-US</dc:language>
  <cp:lastModifiedBy>Ken</cp:lastModifiedBy>
  <dcterms:modified xsi:type="dcterms:W3CDTF">2015-09-19T00:04:22Z</dcterms:modified>
  <cp:revision>2</cp:revision>
  <dc:subject/>
  <dc:title>Welcome Back! PLN 1 Session #4</dc:title>
</cp:coreProperties>
</file>