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4E7-EF9D-4A40-97AD-84330313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C03-4C60-49C9-965B-49D8E9DF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228-19D6-4F48-99E3-401491DC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C20-B5E7-41D7-88DC-279FDF41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033F-A91C-408E-8E9E-02326DC2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4A2-2753-461E-A2E7-50BC1FC5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58DC-63BA-4105-B270-3438F52A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8069-DAB1-44D8-B5EE-CC7F71D7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D79F-FAC1-4DA4-BD6F-CBDD3A75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C358-E622-4660-9485-2E2E0CE7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EB95-AA32-4321-8750-97E2398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86F-A0A7-4EF9-8AEC-10F8DEEC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459C-0EB8-40D7-95BC-B0CB1734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C1F6-776D-4503-9BE2-28D4A6A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2B6C-6833-4591-BFDA-4CBA3E28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9777-C101-4E44-97CF-16E32373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6A06-798B-445F-B3FF-283A0398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89C-F737-40DB-9B42-2A3ECC5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423-E717-4901-8284-1B55BDB6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38D-4E14-4E3E-B871-3B3CFE3F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127-B197-4476-9924-FDD05733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8E7-9011-403C-B923-BE6A047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47B-990C-4A8E-B739-9C6A3692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E88-65DC-406D-8F4E-C277633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3C22-05A6-4507-B1C6-C23C516567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B094-789C-4F63-B4F2-9A3D5F678B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elcome Back!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LN 1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ssion #4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fflin County S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tember 19, 201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e Sheets for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tfall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 Role Sh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d Finde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otation Fin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mmariz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The Be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by Anton Chekho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the literature circles template, complete two items for each of the 4 roles to prepare for a group discuss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in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The Hous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19875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iting With a Purpos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Introducing the I-Search Paper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Pp. 206-207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Take a Look at the Structure of the I-Sear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parison/Contrast Char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BDA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Pages 97-103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Hiroshim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gumentative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 vs. Persuasion vs. Opi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Lunchroom Murde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8387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ave PLN 1 final project comple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rite a reflective 1-2 page essay discussing three ways you have changed your classroom instruc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rticle of your cho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Taking the Puls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you’re back in the classroom, what song title best describes your attitud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ye of the Ti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Under Pres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enter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ridge Over Troubled W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Music"/>
          <p:cNvSpPr/>
          <p:nvPr/>
        </p:nvSpPr>
        <p:spPr>
          <a:xfrm>
            <a:off x="6400800" y="4419720"/>
            <a:ext cx="1809720" cy="1752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e You in Octob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66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Rew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p predictors of student achie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ir/Sh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use, Pounce, Bou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ne Success, One Strug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proves to be successful in your teac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you used that still needs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ding, Writing, Speaking, List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y Reflection Tryou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did I try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 did it go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would I change if I did it again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ease Do Now…Reading Pract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Activities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22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gor in Reading and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we get ther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ir/Sh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mall Group Discuss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cratic Semin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Get Started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ation M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 Up, Pair Up, Share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ayer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Literature Circle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haracteristic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on-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23:17:15Z</dcterms:created>
  <dc:creator>Ken</dc:creator>
  <dc:description/>
  <dc:language>en-US</dc:language>
  <cp:lastModifiedBy>Ken</cp:lastModifiedBy>
  <dcterms:modified xsi:type="dcterms:W3CDTF">2015-09-19T00:04:22Z</dcterms:modified>
  <cp:revision>2</cp:revision>
  <dc:subject/>
  <dc:title>Welcome Back! PLN 1 Session #4</dc:title>
</cp:coreProperties>
</file>