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043E-07B5-43FF-B461-E86BE3AE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EDD-0605-49A3-ACDF-1592984D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A91D-E910-4820-9588-02DBB597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AE25-B87B-47D1-8D71-2D6DFA3A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F539-00A9-423A-8C24-1DE9DAFD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BF26-200E-432D-AD24-32B0AC52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0656-23C7-4002-8238-DBEED558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1974-4562-4CF3-A4B1-37687A26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3BB9-FD51-4AD0-9A67-3EB41428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E0D3-978D-40D2-A22E-A1769509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FBCF-BBB6-4D3C-9DD1-11B4D3EB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A22E-D984-4429-A656-B1F83CDA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75D7-3E71-43B1-B3F9-02F528AB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2F89-3107-4E5A-A0B7-97D7DD42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75C1-48B3-4969-8EFA-3FEDE371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C62C-24F4-43FC-8FB0-899FF715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8128-1EC4-4370-805F-33B97B76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3CB-17B1-4FF5-8101-08750413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DDFA-E4F9-4025-BEA5-26744332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3F9-DE2D-420C-86DB-C0AFA651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535-B04F-46BC-8ABC-F046A5BD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100-E448-4782-85C6-36CAEC62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259-5C93-44D2-AF0A-E50F6797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386-36CC-4F1C-8B3B-D5ECCF8D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F16C-D65C-4BDC-9980-63B8C5723A8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0797-9CC8-4E95-B051-509ED6EB58F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543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elcome Back!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LN 1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ssion #4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ifflin County S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ptember 19, 2015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e Sheets for 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nefit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itfall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About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iterature Circles Role Shee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ord Finder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scussion Directo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Quotation Find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ummariz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The Bet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by Anton Chekho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ing the literature circles template, complete two items for each of the 4 roles to prepare for a group discussion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rpose in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Arial"/>
              </a:rPr>
              <a:t>The Hous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05320" y="3733920"/>
            <a:ext cx="198756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riting With a Purpos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Introducing the I-Search Paper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Pp. 206-207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et’s Take a Look at the Structure of the I-Search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omparison/Contrast Char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l BDA Less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Pages 97-103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Hiroshima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gumentative Wri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gument vs. Persuasion vs. Opin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Lunchroom Murder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48387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Cla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ave PLN 1 final project comple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rite a reflective 1-2 page essay discussing three ways you have changed your classroom instruc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rticle of your choic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Taking the Puls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w that you’re back in the classroom, what song title best describes your attitud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ye of the Ti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Under Press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enterfie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ridge Over Troubled Wa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Music"/>
          <p:cNvSpPr/>
          <p:nvPr/>
        </p:nvSpPr>
        <p:spPr>
          <a:xfrm>
            <a:off x="6400800" y="4419720"/>
            <a:ext cx="1809720" cy="1752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e You in Octobe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76720" y="3048120"/>
            <a:ext cx="22669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earch Rewind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p predictors of student achiev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air/Sh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ause, Pounce, Bou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ne Success, One Strug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one strategy that proves to be successful in your teach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one strategy that you used that still needs 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ading, Writing, Speaking, Listen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ategy Reflection Tryout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hat did I try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ow did it go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hat would I change if I did it again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lease Do Now…Reading Practi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ing Activities Respo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ge 22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igor in Reading and 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ow do we get ther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air/Sha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mall Group Discuss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iterature Circl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ocratic Semina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Get Started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terature Circ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otation Ming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d Up, Pair Up, Share 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ayer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Literature Circle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haracteristic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Non-Exampl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8T23:17:15Z</dcterms:created>
  <dc:creator>Ken</dc:creator>
  <dc:description/>
  <dc:language>en-US</dc:language>
  <cp:lastModifiedBy>Ken</cp:lastModifiedBy>
  <dcterms:modified xsi:type="dcterms:W3CDTF">2015-09-19T00:04:22Z</dcterms:modified>
  <cp:revision>2</cp:revision>
  <dc:subject/>
  <dc:title>Welcome Back! PLN 1 Session #4</dc:title>
</cp:coreProperties>
</file>