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8F3-ACC7-41A3-81EA-0530C02B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FEC-4D8B-40E8-AE28-F35B36AF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1F9-8DD9-414D-B53E-403B3629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0F2-4D3D-45B8-9883-6AA4E284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0F09-9D56-4697-AF47-F8B058A8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A061-67D7-46A5-B8B7-581E3F24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93DB-BC0F-43B0-B594-1B6E5F29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F4AE-0796-4016-B8EF-E823D48B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CDF6-506A-4BAF-AF4A-F75997F3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0CFB-FEAA-4A70-B27A-EA9551EB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BAEE-DD77-4569-86F7-12F35057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342-760A-4BA4-9A1E-8868226C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9DD6-5CA9-4F60-9BD6-F4D45A25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EE52-31E8-49B7-89AE-CAF18C69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F97C-F2B9-462F-8844-6DB34C24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22A8-01FE-4796-A67E-E166E91C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3B15-15AC-4300-81C2-0BAA041F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4D8-A261-47AA-8CE6-12C410C5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DFD-E4F3-4F48-AFFC-FB156D4B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6AD-3A9F-44AB-A3F4-6C419691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3A5-DB31-4431-8235-DCB30D7D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CEA-2655-4A6A-A4F1-DD8F366A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E2E-D051-481B-8935-82E4EE72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212-99B2-4CB4-804C-CF5B12E2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6A22-33BC-4C40-972A-1C66AE051B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2AA0-81B8-480C-AB76-22D62DF886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elcome Back!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LN 1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ssion #4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fflin County S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tember 19, 2015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e Sheets for 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tfall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Abou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terature Circles Role She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ord Finder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Quotation Find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ummariz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The Be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by Anton Chekho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ing the literature circles template, complete two items for each of the 4 roles to prepare for a group discussion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rpose in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The Hous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19875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iting With a Purpos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Introducing the I-Search Paper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Pp. 206-207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t’s Take a Look at the Structure of the I-Searc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mparison/Contrast Char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 BDA Les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Pages 97-103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Hiroshim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gumentative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ument vs. Persuasion vs. Opi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Lunchroom Murder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48387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ave PLN 1 final project comple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rite a reflective 1-2 page essay discussing three ways you have changed your classroom instruc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rticle of your choi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Taking the Puls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that you’re back in the classroom, what song title best describes your attitud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ye of the Ti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Under Pres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enterfi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ridge Over Troubled Wa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Music"/>
          <p:cNvSpPr/>
          <p:nvPr/>
        </p:nvSpPr>
        <p:spPr>
          <a:xfrm>
            <a:off x="6400800" y="4419720"/>
            <a:ext cx="1809720" cy="1752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e You in Octob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22669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earch Rewind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p predictors of student achie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air/Sh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ause, Pounce, Bou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ne Success, One Strug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ne strategy that proves to be successful in your teac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ne strategy that you used that still needs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ading, Writing, Speaking, Listen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ategy Reflection Tryou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did I try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w did it go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would I change if I did it again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lease Do Now…Reading Practi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Activities Respo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22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gor in Reading and 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w do we get ther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ir/Sha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mall Group Discuss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cratic Semin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Get Started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erature Circ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otation Min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 Up, Pair Up, Share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ayer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Literature Circle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haracteristic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on-Exampl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8T23:17:15Z</dcterms:created>
  <dc:creator>Ken</dc:creator>
  <dc:description/>
  <dc:language>en-US</dc:language>
  <cp:lastModifiedBy>Ken</cp:lastModifiedBy>
  <dcterms:modified xsi:type="dcterms:W3CDTF">2015-09-19T00:04:22Z</dcterms:modified>
  <cp:revision>2</cp:revision>
  <dc:subject/>
  <dc:title>Welcome Back! PLN 1 Session #4</dc:title>
</cp:coreProperties>
</file>