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D38-9074-4664-A303-48DDCEF6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0D4-5023-4149-AD44-7D04B528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FBB-931D-4B70-847B-1FD68794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5AC-8362-4A8F-B841-5715A5DC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5FD2-7F07-4A6E-BBBA-607DAE94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C7BE-33D2-44D4-A7D1-236C48B7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258E-4EAA-4675-9B1C-23B36885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5B66-C6EC-420B-9590-4D1C8E38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7E6C-D998-4973-8093-1D165AA7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37FE-1294-4BAD-8D4B-F46909F3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68F5-8B96-4BBA-BF73-D4E93E55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DAA-FD36-474E-8396-5B77C987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A071-BB23-4498-81B5-0BD953C6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5005-C846-4093-952A-FD6DE98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B61E-0ABC-4D99-8C4A-40E07C8B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C485-9CF1-4354-A2C4-82BA3683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A962-3DAF-4C11-A644-78B44EAB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528-DB78-42E9-8DD6-B20201AD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099-7A2A-4777-AA53-9A41FAC9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7ED-6426-40D1-9A4A-57A88300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619-063F-4ED9-9996-A248D41F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445-3BFC-4141-B9B3-0612BFE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2F5-4C59-4D0B-A54F-1DA6A891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948-E2CD-42F4-9C0F-FB7C7ADE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85A4-1BE3-4088-89B2-639F1E179A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2BDE-F18F-4C75-ACAF-31E8ABECDC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elcome Back!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LN 1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ssion #4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fflin County S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tember 19, 201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e Sheets for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tfall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Abou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 Role She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ord Finde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uotation Fin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ummariz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The Be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by Anton Chekho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the literature circles template, complete two items for each of the 4 roles to prepare for a group discussio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rpose in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The Hous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19875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iting With a Purpos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Introducing the I-Search Paper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Pp. 206-207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t’s Take a Look at the Structure of the I-Searc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mparison/Contrast Char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BDA Les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Pages 97-103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Hiroshim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gumentative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ument vs. Persuasion vs. Opi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Lunchroom Murde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8387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ave PLN 1 final project comple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rite a reflective 1-2 page essay discussing three ways you have changed your classroom instruc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rticle of your cho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Taking the Puls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that you’re back in the classroom, what song title best describes your attitud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ye of the Ti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Under Pres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enter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ridge Over Troubled Wa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Music"/>
          <p:cNvSpPr/>
          <p:nvPr/>
        </p:nvSpPr>
        <p:spPr>
          <a:xfrm>
            <a:off x="6400800" y="4419720"/>
            <a:ext cx="1809720" cy="1752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e You in Octob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266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Rewin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p predictors of student achie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ir/Sh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use, Pounce, Bou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ne Success, One Strug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proves to be successful in your teac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you used that still needs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ading, Writing, Speaking, Listen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y Reflection Tryou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did I try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 did it go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would I change if I did it again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lease Do Now…Reading Practi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Activities Respo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22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gor in Reading and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w do we get ther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ir/Sha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mall Group Discuss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cratic Semin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Get Started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otation Mi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 Up, Pair Up, Share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ayer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Literature Circle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haracteristic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on-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23:17:15Z</dcterms:created>
  <dc:creator>Ken</dc:creator>
  <dc:description/>
  <dc:language>en-US</dc:language>
  <cp:lastModifiedBy>Ken</cp:lastModifiedBy>
  <dcterms:modified xsi:type="dcterms:W3CDTF">2015-09-19T00:04:22Z</dcterms:modified>
  <cp:revision>2</cp:revision>
  <dc:subject/>
  <dc:title>Welcome Back! PLN 1 Session #4</dc:title>
</cp:coreProperties>
</file>