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544A-0CEA-4306-8FC4-4EE7F5A20B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981D-23B0-4E31-8A83-8F09E12EF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4494-0FEF-4811-B657-23606C926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E71C-6BEF-4B63-8CB2-F92CFE801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A706-F53D-4718-86F8-42A597EA1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CC7C-D7CD-4712-858C-50D03D9E6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BD32-CCBA-464E-91A6-71A0B8FA5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DE9D-A150-4A35-B020-C3361AD8F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7190-C6F3-427D-800C-B33EB1D9A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6E06-7C34-440B-B6D6-87574A68B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2FD7-7E6F-42A1-A5F4-92FE55EB7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607F-6A3B-4EE3-8CF7-425CAA79E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961E-B5EC-4394-A67F-2697A160F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57B4-ED90-417B-AE45-E3BCE1B85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D9D8-AAED-434F-A7C8-78C6C4EE3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79F4-AF79-4A92-900E-2BCD0A77E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s indicate that in some classes students spend more time transitioning than engaged in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40CA-0B1D-4F9A-9C5C-67149A686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76B-5784-4A18-A38E-BCA6159F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EF1-E34D-4E93-8257-421A0341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5677-2BB6-44D2-A845-6ECF78B5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907-24C1-4E9B-915C-4399D057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E52A-88CF-4672-9F8F-2AA0104C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E4F9-1C66-4B7C-87BF-E087377E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309D-696B-448F-8A22-4E79A32E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93CF-87A7-4136-A092-F903E3EC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EC86-FA0C-4A61-9C90-65D45787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8241-B23C-41B5-9555-3DDACED6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2CDC-1244-429F-84F9-0286B512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DDF-2932-454C-A195-D91788D2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3053-31B6-456E-9BCE-A3950B15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0E71-DBA1-49E0-903C-37F56E90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456B-BC40-4783-AB48-56CDC091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0138-3420-4FB8-8D78-2B2A5882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653E-F918-464A-9AFF-CE45F3A5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94745-5167-426A-AFC4-0FEAB620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23A3D-95D3-4297-AF64-4A0B6574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59223-1B2D-4F75-BEF9-D9ED296A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C42A8-1308-4F0A-B6CB-70938E19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4DDAE-D0EA-4F30-B339-23F684E6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E05-D3BB-4D60-B0DD-9427B8B9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BEF2C-145D-4D57-8654-D800A9F3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10024-0E80-422B-8C17-CC0FDBA3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E37B2-ECE9-44A5-B0F9-EC483F98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17349-7CB9-4FDB-8105-86891633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AE9E4-F4CE-4087-857B-D22EC2D6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B96AF-AA8D-4D31-8802-E8ED00F8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99ECB-F206-4B63-B1CA-A0119236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2A943-25FE-442F-9F43-CB7E512A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BE468-368C-4822-9768-5F4404E7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FAA47-922C-4C3A-9ADC-AD76694D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D0B-520A-4D6D-A61B-2824BB47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16B94-1B7D-4AC3-8A6B-0790608A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68314-4981-4DAD-A962-B3906DC1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2ECCB-D39A-4CD2-9FB7-19B717CA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6720F-161A-48E1-8256-7BFA1C92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3948C-4616-4734-B082-7215239F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91D54-34E5-4DA2-A5C7-D328EF66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20B89-E4EE-44C2-AC7E-6E6DBD46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94D83-9A1A-4B8C-8CA2-66EEF5A5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FBD35-88AB-4186-8AD3-1C12D37B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4EF-3815-448C-A956-BAC38387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06C-3AE8-4590-A69C-7815AED5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C18-157B-4A2C-9C2C-B7479F18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86E-DDE0-434A-B9B1-1803646D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600-FB16-4EBF-B610-E4A23290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D245-960C-4471-AF05-D510E1420F9C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CBA0-EF92-465F-A0E8-F02E6A83B5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7BDA-925F-4EF5-B386-FC215B864019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091C-09E1-4DDB-B70E-85038F3100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B2AE-6646-4FD5-B6F0-DC49780B5FCC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E77C-0867-4E6C-B57F-1E5CD319DC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00B3-BCA3-4A11-97BD-50131113C6D6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E2BF-04B1-430A-B48E-23D798B153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755640" y="622440"/>
            <a:ext cx="7785000" cy="62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7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25905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2520" indent="-447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unicating competently w/ stud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96680" indent="-4471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Praise, encouraging feedback, empathy statements and smiling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796680" indent="-4471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elivering effective praise: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Contingenc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pecific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incer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796680" indent="-4471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elivering effective reprimands or corrective statement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Brev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Non-emotional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Non-threatening, soft voice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Proximity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27440" indent="-4474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8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533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 and model behavioral expectations and prosocial skills (SW-PB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et aside time to teach prosocial skills for success in the classroo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haring, listening, waiting turns, question asking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Provide examples/non-example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atch’em being go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aka – behavior specific praise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9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610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cher proxim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eacher movement throughout the classroom increases academic engage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oximity reduces challenging behaviors in students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Teach like the floor is on fire”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3" marL="143820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Can’t stand in the same spot for long before your feet get burned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0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tivation Syst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ystem of delivering rewards or contingent access to desired activities or privileges based on performanc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llows students to receive payoff for maintaining on-task behavio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elps students who are not inherently good at or motivated to do academic task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1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oal setting and performance feedbac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stablish a reasonably ambitious behavioral goal for each stud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liver periodic feedback to the students based on their progress toward goal attain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ward the individual students and/or entire class for meeting preset goa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2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schedule posted of daily activ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know what to expec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know when to expect which activit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know how much time will be devoted to each activ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can better self-manage their behavior and tim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3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4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ffective cueing systems to release and regain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velop signals that release and regain atten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Avoid shouting or using the light switch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Utilize students themselves as a way to prompt and regain attention from other studen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If you can hear me raise your hand.”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Clap three times…snap three time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4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0764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79960" indent="-478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5 to 1 ratio of positive to negative intera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sitive interactions consist of words, gestures (thumbs up), or physical contact (pat on the shoulder, high five) that have a positive quality to them and are delivered contingent on desirable behavio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098360" indent="-4780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elps students learn expected behaviors and teachers build stronger relationships with student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primands or corrective statements work better in the context of a positive, reinforcing environ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51400" indent="-478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098360" indent="-4780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1098360" indent="-4780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#15 Proactive Classroom Management Tactics Smiling and being (Mirror Neurons!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1920" y="167616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urons that fire when another person acts; thus, the neuron "mirrors" the behavior of the ot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PLICATION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38920" indent="-2016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learn via modeling from educators and pee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38920" indent="-2016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udents will treat us how we treat them (if we’re mean-they’re mean; if we’re nice-they’re nice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3353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Mirror Neurons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–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the power of smiling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716120"/>
            <a:ext cx="55627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andomized trial looking at performance under smiling versus no smiling condition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hose in the smile group perceived the world in a better light: To them,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848520" indent="-201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boring material was more interesting, 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848520" indent="-201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neutral images looked more positive, 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848520" indent="-201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even bland drinks seemed tastier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LUS, people who smile more live an average of 7 years longer than those who smile l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6019920" y="3809880"/>
            <a:ext cx="2781360" cy="2781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2"/>
          <a:stretch/>
        </p:blipFill>
        <p:spPr>
          <a:xfrm>
            <a:off x="6248520" y="114480"/>
            <a:ext cx="24638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2 Most Important Variables for Learn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2103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ime devoted to instruction (TDI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ow much actual time throughout the day is devoted to learning activities?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Direct instruction, small group activities, independent seatwork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cademic engaged time (AET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The extent to which students are engaged or paying attention to the instructio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Learning does not occur if the student is not paying attention (NO DUH!)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#16 Proactive Classroom Management Tactics </a:t>
            </a:r>
            <a:br>
              <a:rPr sz="3200"/>
            </a:b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Providing numerous opportunities to respond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ssrooms in which teachers provide students with numerous opportunities to respond, are associated with higher student engagement which is incompatible with problem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t pass the dead man’s te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f a dead man can be as successful in a classroom as a live student, then there aren’t enough opportunities for students to respond and interact with the learning cont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-escalation Strateg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480" y="1676520"/>
            <a:ext cx="83822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o not intimidate the student (get on the student’s level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Your eye’s below the student’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se a calm vo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wer words the bett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n-threatening body postur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o not stand over the studen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tand to the sid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aring stat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Empathy, perspective-taking, encouragemen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ive the student a way ou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lternative activity, “Not now, later,” “why don’t you take a break and get some water”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voiding shaming, ridiculing, and/or embarrassing the stud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The Numbers: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ncreasing TDI or AET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99800"/>
            <a:ext cx="82296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5 hours of possible instruction per day (300 minutes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ngage in efforts to increase TDI and/or AE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Increase by: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5 minutes per day = +25 minutes per week; +15.8 hours for year 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10 minutes per day = +50 minutes per week; +30.6 hours for year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15 minutes per day = +75 minutes per week; +46.4 hours for year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30 minutes per day = +150 minutes per week; +92.8 hours for year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Why is it more difficult to manage the Behavior of a Group than an Individual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4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re of them and only one of yo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icult to please everyone at o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iverse motivations, interests, and skill level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er contag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ople do things in the context of groups that they would never do alo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5" descr="http://www.freshtracks.co.uk/images/blog/outnumbered.jpg"/>
          <p:cNvPicPr/>
          <p:nvPr/>
        </p:nvPicPr>
        <p:blipFill>
          <a:blip r:embed="rId1"/>
          <a:stretch/>
        </p:blipFill>
        <p:spPr>
          <a:xfrm>
            <a:off x="5181480" y="2133720"/>
            <a:ext cx="3810240" cy="2904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http://gaygamer.net/images/ymca.jpg"/>
          <p:cNvPicPr/>
          <p:nvPr/>
        </p:nvPicPr>
        <p:blipFill>
          <a:blip r:embed="rId2"/>
          <a:stretch/>
        </p:blipFill>
        <p:spPr>
          <a:xfrm>
            <a:off x="5486400" y="3505320"/>
            <a:ext cx="3333600" cy="3209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http://a6.vox.com/6a00cd97849482f9cc00e398a113a60003-320pi"/>
          <p:cNvPicPr/>
          <p:nvPr/>
        </p:nvPicPr>
        <p:blipFill>
          <a:blip r:embed="rId3"/>
          <a:stretch/>
        </p:blipFill>
        <p:spPr>
          <a:xfrm>
            <a:off x="5410080" y="1752480"/>
            <a:ext cx="2590920" cy="2671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http://www.inquisitr.com/wp-content/nazi-helper.jpg"/>
          <p:cNvPicPr/>
          <p:nvPr/>
        </p:nvPicPr>
        <p:blipFill>
          <a:blip r:embed="rId4"/>
          <a:stretch/>
        </p:blipFill>
        <p:spPr>
          <a:xfrm>
            <a:off x="5791320" y="3200400"/>
            <a:ext cx="3103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16 Proactive Classroom Management Strategie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rganizing a productive classroo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Establishing positive relationships with all students in the clas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ositive greetings at the door to precorrect and establish a positive climat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assroom rules/expectations and procedures are visible and known by every studen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ransitions are managed wel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ndependent seatwork is managed and used when neede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mmunicating competently w/ studen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each, model, and reinforce prosocial skill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549000" indent="-45252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8320" y="1371600"/>
            <a:ext cx="4038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acher proxim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tivation system to reward desirable behavio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oal setting and performance feedbac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isual schedule of classroom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ffective cuing systems to release and regain atten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5 to 1 ratio of positive:negative interac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miling and being ni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viding numerous opportunities to respond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#1 Proactive Classroom Management Tactic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21333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ganizing a productive classro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ll students can see instruction without having to strain or engage in effor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tudents do not face traffic areas (distractibility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roblem students are not seated next to one another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asy to walk without disruption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eating rows with paired desks instead of tables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Reduces disruptive behavior </a:t>
            </a:r>
            <a:r>
              <a:rPr b="0" lang="en-US" sz="1600" spc="-1" strike="noStrike">
                <a:solidFill>
                  <a:srgbClr val="53548a"/>
                </a:solidFill>
                <a:latin typeface="Georgia"/>
              </a:rPr>
              <a:t>(Whedall et al., 1981)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Increases academic productivity </a:t>
            </a:r>
            <a:r>
              <a:rPr b="0" lang="en-US" sz="1600" spc="-1" strike="noStrike">
                <a:solidFill>
                  <a:srgbClr val="53548a"/>
                </a:solidFill>
                <a:latin typeface="Georgia"/>
              </a:rPr>
              <a:t>(Bennett &amp; Blundell, 1983)</a:t>
            </a:r>
            <a:endParaRPr b="0" lang="en-US" sz="16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3 Proactive Classroom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ssroom rules and procedur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stablish clear rules/expect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ules/expectations stated in the positiv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 more than 3 to 5 rules/expect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view rules/expectations on a weekly basi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inforce rule abiding behavio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sponse cost rule violating behavio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5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itive greetings at the door to establish a positive classroom atmosphere and precorrect problem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sitive verbal or non-verbal interactions with students as they walk into the roo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ecorrect individual student or all studen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181160" indent="-514440">
              <a:spcBef>
                <a:spcPts val="300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6 Proactive Classroom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anagement Tactic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naging independent seatwor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dependent seatwork is associated with lower rates of engagement and student achievement than teacher-led activit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lear expect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ve backup assignment/activity for those who finish earl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5840" indent="-5140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eer-assisted assignment correct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9:16:02Z</dcterms:created>
  <dc:creator>Clay</dc:creator>
  <dc:description/>
  <dc:language>en-US</dc:language>
  <cp:lastModifiedBy>Ken</cp:lastModifiedBy>
  <dcterms:modified xsi:type="dcterms:W3CDTF">2013-10-07T16:01:48Z</dcterms:modified>
  <cp:revision>23</cp:revision>
  <dc:subject/>
  <dc:title>Tier I Positive Behavior Supports for ALL Students</dc:title>
</cp:coreProperties>
</file>