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6D47-9DA7-4725-9287-21DDBDD7FA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01CB-B66D-41A4-AC45-30B8A1596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E412-5A97-4FA0-A847-A434E249C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B2BF-A64B-41DA-ADB4-EADA17A4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1418-D6D6-4C33-983A-41425514E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3C9C-6CAD-4613-A185-312D659B1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733E-0D85-40C5-91C2-9040B601B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F745-99A1-46E2-97CD-178ED98C9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9FEC-B2E8-45E8-97AD-88D2C893A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9AD6-0194-4726-942F-670EAE45F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CBB4-8590-48CA-9479-67D3357E5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4B42-2ADF-4E83-8D83-AC7166E64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99D4-866F-40A7-AB7F-5D0AF6A8E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40BC-C664-409C-90BA-2469B74DA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C1F2-C584-4AA0-A856-D7E720EE6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93B9-47B7-4785-8DDD-7D93F25D1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7461-B403-4B81-B2E2-6A8D8A1E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9A7-B700-4461-89D2-39BB229A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4FE-D1CD-41B5-9051-9BC92E19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2AB-7060-41CF-ABF4-451BBBED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E88-AE66-46B7-A0DE-2F02FC93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51D2-0B06-4047-93DA-EE85EB52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4643-2D40-483E-8EE7-54BDD04F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4DBB-1EF1-4143-9E19-0CC2ED9E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4EFF-D3EE-4FF9-9E11-2234BD07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45D8-F63D-4172-8188-9D4B2B4C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D8A3-71AA-4EB8-AA5D-E4C5DAEA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17B0-7CE1-4B75-A1EB-8E39CDAE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8BD-2935-4DEB-B885-B752E79E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C842-1BC4-4E24-B47C-4614BA58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9FC5-9486-475F-A107-D0CFE7ED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B052-F37B-4135-B789-A9EC6AB1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BA66-46FA-4144-B557-A48DE5DA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AC5E-945E-4DDE-AA72-34A1C3D5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A3186-4A90-4EE9-8BDC-08D10DD2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69E21-69F0-4FDA-A3A6-F8CC6936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1E26C-BFF2-47FE-ABF7-3B22DD35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3C0A2-DE42-42CA-A292-758B0C8B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66027-E257-454E-BFB3-CF81F36A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6BE-45F8-4847-83A3-E89FC928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499A8-3DCB-4A40-8FB0-78E0AB33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5C617-BD0B-40E5-A3BB-00DCF2E9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E0D1D-83BE-44C5-9F43-63579243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75F1B-9793-41C6-8A01-EE89D88C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4F6A2-3251-4F67-AAA2-B61717DE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C28ED-FBC8-4E13-AD2A-5CAF367B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F4E54-0D2D-4317-83C1-AE2E8D3F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73D1-72FD-4666-B4E6-8F6F9D88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5C987-C23F-45E1-9913-3E42C4C1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24C4-F6A7-4811-B7B8-621BE23C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072-8263-4FFC-923B-C84B4DA7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74C9-2860-4929-8705-78B0FE16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019B-DF2F-45ED-B175-7B39C772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4EC5-E4F3-4FC6-9529-F1A209BA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B053-56AD-4EC4-8237-10793C1A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226E-ED5C-43CF-B12F-E03BC208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67A8F-5DAA-41BE-A85E-0AE30547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FD2FF-0520-41DC-8BF4-A7CE79CF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89707-17BD-4612-86D4-166D0CC4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019C4-1681-4916-A327-BFDF8189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C78-65DB-4414-B991-70D7EA9D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4AA-0626-4186-9523-6BDC0C0D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E36-85F8-4EB4-A91E-76DC7BB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8AE-CFDC-4ECC-8C6E-942F757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8D8-2C22-4E53-A742-0229CBA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A901-0369-4662-BAC4-9CC3CBA931CE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A2B1-C749-4F82-81CD-CC626A9938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71CC-4CC8-4666-9DEA-C3A664ED5B5B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774A-6BC6-43B6-9945-CC375722B5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90E0-686F-43A6-BE61-40DE0568FAD7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9B55-442B-43F6-BF3A-ACC253514C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6009-465E-4480-984D-8B4DF29403D8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8A05-F826-4270-95CA-78D5F85E9D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755640" y="622440"/>
            <a:ext cx="7785000" cy="62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7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25905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2520" indent="-447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raise, encouraging feedback, empathy statements and smiling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praise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ontingenc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pecific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incer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reprimands or corrective statement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Brev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emotional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threatening, soft voic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xim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8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 and model behavioral expectations and prosocial skills (SW-PB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et aside time to teach prosocial skills for success in the class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haring, listening, waiting turns, question askin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vide examples/non-exampl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tch’em being g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ka – behavior specific prais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9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610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eacher movement throughout the classroom increases academic engag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ximity reduces challenging behaviors in student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each like the floor is on fire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43820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Can’t stand in the same spot for long before your feet get burned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0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tivation 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ystem of delivering rewards or contingent access to desired activities or privileges based on performa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lows students to receive payoff for maintaining on-task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ps students who are not inherently good at or motivated to do academic task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1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a reasonably ambitious behavioral goal for each stud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liver periodic feedback to the students based on their progress toward goal attai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ward the individual students and/or entire class for meeting preset goa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2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schedule posted of daily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at to exp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en to expect which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how much time will be devoted to each activ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can better self-manage their behavior and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3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ffective cueing systems to release and regain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 signals that release and regain atten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void shouting or using the light switch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tilize students themselves as a way to prompt and regain attention from other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f you can hear me raise your hand.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lap three times…snap three tim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4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076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 to 1 ratio of positive to negative inte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interactions consist of words, gestures (thumbs up), or physical contact (pat on the shoulder, high five) that have a positive quality to them and are delivered contingent on desirable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elps students learn expected behaviors and teachers build stronger relationships with student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rimands or corrective statements work better in the context of a positive, reinforcing enviro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5 Proactive Classroom Management Tactics Smiling and being (Mirror Neurons!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1920" y="16761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urons that fire when another person acts; thus, the neuron "mirrors" the behavior of the o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LICATIO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learn via modeling from educators and pe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will treat us how we treat them (if we’re mean-they’re mean; if we’re nice-they’re nic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335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Mirror Neuron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–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power of smiling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716120"/>
            <a:ext cx="55627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andomized trial looking at performance under smiling versus no smiling condition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ose in the smile group perceived the world in a better light: To them,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boring material was more interesting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eutral images looked more positive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even bland drinks seemed tastier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LUS, people who smile more live an average of 7 years longer than those who smile l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6248520" y="114480"/>
            <a:ext cx="2463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2 Most Important Variables for Learn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2103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ime devoted to instruction (TDI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ow much actual time throughout the day is devoted to learning activities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Direct instruction, small group activities, independent seatwork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cademic engaged time (AET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extent to which students are engaged or paying attention to the instruc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Learning does not occur if the student is not paying attention (NO DUH!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6 Proactive Classroom Management Tactics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Providing numerous opportunities to respon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s in which teachers provide students with numerous opportunities to respond, are associated with higher student engagement which is incompatible with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t pass the dead man’s t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f a dead man can be as successful in a classroom as a live student, then there aren’t enough opportunities for students to respond and interact with the learning cont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-escalation Strateg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1676520"/>
            <a:ext cx="8382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 not intimidate the student (get on the student’s leve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Your eye’s below the student’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se a calm vo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wer words the bet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n-threatening body postu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o not stand over the stud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tand to the sid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ring stat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Empathy, perspective-taking, encouragem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ive the student a way ou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lternative activity, “Not now, later,” “why don’t you take a break and get some water”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voiding shaming, ridiculing, and/or embarrassing the stud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Numbers: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creasing TDI or AET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9980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5 hours of possible instruction per day (300 minutes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gage in efforts to increase TDI and/or AE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Increase by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5 minutes per day = +25 minutes per week; +15.8 hours for year 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0 minutes per day = +50 minutes per week; +30.6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5 minutes per day = +75 minutes per week; +46.4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30 minutes per day = +150 minutes per week; +92.8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is it more difficult to manage the Behavior of a Group than an Individual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4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of them and only one of yo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 to please everyone at o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verse motivations, interests, and skill level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er contag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ople do things in the context of groups that they would never do al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5" descr="http://www.freshtracks.co.uk/images/blog/outnumbered.jpg"/>
          <p:cNvPicPr/>
          <p:nvPr/>
        </p:nvPicPr>
        <p:blipFill>
          <a:blip r:embed="rId1"/>
          <a:stretch/>
        </p:blipFill>
        <p:spPr>
          <a:xfrm>
            <a:off x="5181480" y="2133720"/>
            <a:ext cx="3810240" cy="2904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http://gaygamer.net/images/ymca.jpg"/>
          <p:cNvPicPr/>
          <p:nvPr/>
        </p:nvPicPr>
        <p:blipFill>
          <a:blip r:embed="rId2"/>
          <a:stretch/>
        </p:blipFill>
        <p:spPr>
          <a:xfrm>
            <a:off x="5486400" y="3505320"/>
            <a:ext cx="3333600" cy="32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http://a6.vox.com/6a00cd97849482f9cc00e398a113a60003-320pi"/>
          <p:cNvPicPr/>
          <p:nvPr/>
        </p:nvPicPr>
        <p:blipFill>
          <a:blip r:embed="rId3"/>
          <a:stretch/>
        </p:blipFill>
        <p:spPr>
          <a:xfrm>
            <a:off x="5410080" y="1752480"/>
            <a:ext cx="2590920" cy="2671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://www.inquisitr.com/wp-content/nazi-helper.jpg"/>
          <p:cNvPicPr/>
          <p:nvPr/>
        </p:nvPicPr>
        <p:blipFill>
          <a:blip r:embed="rId4"/>
          <a:stretch/>
        </p:blipFill>
        <p:spPr>
          <a:xfrm>
            <a:off x="5791320" y="3200400"/>
            <a:ext cx="3103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16 Proactive Classroom Management Strategie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stablishing positive relationships with all students in the clas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sitive greetings at the door to precorrect and establish a positive climat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assroom rules/expectations and procedures are visible and known by every studen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ransitions are managed we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dependent seatwork is managed and used when need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ach, model, and reinforce prosocial skil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371600"/>
            <a:ext cx="4038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tivation system to reward desirable behavi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sual schedule of classroom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ffective cuing systems to release and regain atten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 to 1 ratio of positive:negative intera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miling and being n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viding numerous opportunities to respond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#1 Proactive Classroom Management Tac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21333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ll students can see instruction without having to strain or engage in effor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tudents do not face traffic areas (distractibilit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blem students are not seated next to one anoth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asy to walk without disrup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eating rows with paired desks instead of tables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Reduces disruptive behavior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Whedall et al., 1981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Increases academic productivity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Bennett &amp; Blundell, 1983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3 Proactive Classroom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 rules and proced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clear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ules/expectations stated in the positiv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 more than 3 to 5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ew rules/expectations on a weekly bas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inforce rule abid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sponse cost rule violat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5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greetings at the door to establish a positive classroom atmosphere and precorrect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verbal or non-verbal interactions with students as they walk into the 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ecorrect individual student or all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6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aging independent seat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dependent seatwork is associated with lower rates of engagement and student achievement than teacher-led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lear 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ve backup assignment/activity for those who finish earl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eer-assisted assignment correct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16:02Z</dcterms:created>
  <dc:creator>Clay</dc:creator>
  <dc:description/>
  <dc:language>en-US</dc:language>
  <cp:lastModifiedBy>Ken</cp:lastModifiedBy>
  <dcterms:modified xsi:type="dcterms:W3CDTF">2013-10-07T16:01:48Z</dcterms:modified>
  <cp:revision>23</cp:revision>
  <dc:subject/>
  <dc:title>Tier I Positive Behavior Supports for ALL Students</dc:title>
</cp:coreProperties>
</file>