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B472-5A36-4E3D-AE66-37E133224E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DB7F-8D3E-4EA7-95FD-DB0DD1334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E25B-8651-41C4-A058-643219FF4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BD8F-7172-49F9-9563-C206691F1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CD68-9713-4CD3-84E6-256521C1E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BC73-3729-418E-A631-9AA97556C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9EE2-7CC6-4816-AD43-D4969944A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7827-6A40-49EE-B06C-7AF21A2A9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0E57-3A3C-461A-8A17-131018877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562D-A994-484D-8750-9B130C4C2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B506-C9D7-4E86-9791-F8C62825B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B791-C936-47BC-863D-B7531AA1A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6EF9-AE2F-4082-AEFA-891E0CC5F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6181-A8BC-4B74-8206-F7BEFF463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75E7-3473-4E42-89D8-1D9A05EB4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32E4-8CFF-4D04-9C1D-35DE15DD2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F3BD-1DCC-4CBE-8A25-5737C4619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BD6-98FC-4A9D-AB10-F65C7E48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385A-2D9B-49C7-B8C9-FFF92799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526-BC51-4A7C-A775-FBCF61EB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A60-88CB-414B-BF66-CEC48136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3C9B-730F-46FA-A8A4-6899DFB8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68B5-B69C-4BD8-AC59-CA644DE8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A3E7-8A97-41C8-AEB9-AF04C9A6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6494-11BA-4ABB-B818-DE8F9EA1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DCA6-BCAC-4F65-B5DD-1D0EB514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6AC9-977E-4C38-8C2C-A8F5A524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B38A-1DF3-4F65-A219-1D3B32E8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82B-C83E-42E5-9691-F7485A71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99BB-3F55-4114-9435-B4F929C5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AA70-45D1-4D30-A1BC-8EA0CA4D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EFEC-A74F-4602-9D04-FEE4EDB9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8523-6633-4381-9A26-D27B14B4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533D-B5E9-4C12-8A9E-AAEF36B4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5A88C-5293-4E33-A242-30ECFA93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75926-2654-44C1-91F8-930F0939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A9ED1-89DD-4090-A3EB-7CE743ED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A013E-3B16-4EA2-B7C5-4C3BB319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EFF14-EE82-4EC5-8724-343C1B0B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564-8A8D-472F-965E-E8717B1F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AB6B4-91B5-4915-8A38-C6E67A6A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3ED23-4882-4260-9433-B85B5E82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B33AC-FE7F-4EDC-B1E6-8DDBCE3F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01690-AEF9-4D7B-9FB7-F6FAD01C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723EF-8610-4D5B-8A2B-CB3ED125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56CC9-D460-4DAB-95C5-4DA0CC60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D3D40-F40D-49EF-BD93-D0E7DFC7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ECD6A-ADE0-48A6-852E-97214E1C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05E58-CF44-4D31-B0B1-23CEE3B5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5E6BB-54C7-4224-B841-4B30609B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497-F177-4B83-AC04-CBEDA81F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E2149-8889-460E-92F2-77146B93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E5998-279F-45A2-AB13-B9B0E2B2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FD6D7-8C8E-438D-BF11-D712FA8C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4312C-1E76-4E74-BBC6-A9ACF2B0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D4985-FE2E-4FD7-B859-C8144431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136EA-5CE4-4667-AFD2-2C52B2DD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D2083-D600-43DA-9C71-D1B69451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1CF23-9FA5-4131-89C3-DA58F40A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E7923-F1B9-47A3-92AB-5E5FB674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0D9-5D28-470C-A765-F9C1EE91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B0E-02D8-4299-B70F-098D5409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D7B-0E27-4197-84F8-2D64B65E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93D-0C98-4F4B-AD0B-0174A96E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04E-A93F-4F28-BD94-013195D0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BF84-800D-476C-8924-96FAF4431E21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A0F4-E5C8-4915-9623-E6807FBEFE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E507-BCE4-40AF-8812-B6FD1779B6CE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A8DE-B9E2-4804-8066-31231A48D5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C2F1-A44F-4614-9136-E3B481AAE5EB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1CE9-ED07-4109-BD8F-92ADA1DF92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BBFE-3EC0-455E-B66B-C4CC00850DFD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EA0F-A418-4218-8692-013D76BC4E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755640" y="622440"/>
            <a:ext cx="7785000" cy="62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7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25905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2520" indent="-447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cating competently w/ stud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Praise, encouraging feedback, empathy statements and smiling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elivering effective praise: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Contingenc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pecific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incer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elivering effective reprimands or corrective statement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Brev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Non-emotional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Non-threatening, soft voic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Proxim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8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 and model behavioral expectations and prosocial skills (SW-PB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et aside time to teach prosocial skills for success in the classroo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haring, listening, waiting turns, question asking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Provide examples/non-exampl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atch’em being go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ka – behavior specific prais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9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610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er proxim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eacher movement throughout the classroom increases academic engage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oximity reduces challenging behaviors in student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each like the floor is on fire”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43820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Can’t stand in the same spot for long before your feet get burned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0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tivation Syst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ystem of delivering rewards or contingent access to desired activities or privileges based on performanc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lows students to receive payoff for maintaining on-task behavio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lps students who are not inherently good at or motivated to do academic task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1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al setting and performance feedba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stablish a reasonably ambitious behavioral goal for each stud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liver periodic feedback to the students based on their progress toward goal attain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ward the individual students and/or entire class for meeting preset goa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2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schedule posted of daily 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what to expec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when to expect which activit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how much time will be devoted to each activ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can better self-manage their behavior and tim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3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ffective cueing systems to release and regain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velop signals that release and regain atten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void shouting or using the light switch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Utilize students themselves as a way to prompt and regain attention from other stude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f you can hear me raise your hand.”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Clap three times…snap three tim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4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0764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 to 1 ratio of positive to negative intera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 interactions consist of words, gestures (thumbs up), or physical contact (pat on the shoulder, high five) that have a positive quality to them and are delivered contingent on desirable behavio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elps students learn expected behaviors and teachers build stronger relationships with student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primands or corrective statements work better in the context of a positive, reinforcing environ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#15 Proactive Classroom Management Tactics Smiling and being (Mirror Neurons!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1920" y="167616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urons that fire when another person acts; thus, the neuron "mirrors" the behavior of the ot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LICATIO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38920" indent="-2016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learn via modeling from educators and pe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38920" indent="-2016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will treat us how we treat them (if we’re mean-they’re mean; if we’re nice-they’re nice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335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Mirror Neurons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–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the power of smiling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716120"/>
            <a:ext cx="55627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andomized trial looking at performance under smiling versus no smiling condition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hose in the smile group perceived the world in a better light: To them,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boring material was more interesting, 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neutral images looked more positive, 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even bland drinks seemed tastier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LUS, people who smile more live an average of 7 years longer than those who smile l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2"/>
          <a:stretch/>
        </p:blipFill>
        <p:spPr>
          <a:xfrm>
            <a:off x="6248520" y="114480"/>
            <a:ext cx="2463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2 Most Important Variables for Learn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2103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ime devoted to instruction (TDI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ow much actual time throughout the day is devoted to learning activities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Direct instruction, small group activities, independent seatwork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cademic engaged time (AET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he extent to which students are engaged or paying attention to the instruct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Learning does not occur if the student is not paying attention (NO DUH!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#16 Proactive Classroom Management Tactics </a:t>
            </a:r>
            <a:br>
              <a:rPr sz="3200"/>
            </a:b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Providing numerous opportunities to respon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ssrooms in which teachers provide students with numerous opportunities to respond, are associated with higher student engagement which is incompatible with problem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t pass the dead man’s te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f a dead man can be as successful in a classroom as a live student, then there aren’t enough opportunities for students to respond and interact with the learning cont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-escalation Strateg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480" y="1676520"/>
            <a:ext cx="83822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 not intimidate the student (get on the student’s leve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Your eye’s below the student’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se a calm vo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wer words the bett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n-threatening body postur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o not stand over the stude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tand to the sid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aring stat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Empathy, perspective-taking, encourageme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ive the student a way ou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lternative activity, “Not now, later,” “why don’t you take a break and get some water”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voiding shaming, ridiculing, and/or embarrassing the stud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The Numbers: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ncreasing TDI or AET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9980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5 hours of possible instruction per day (300 minutes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ngage in efforts to increase TDI and/or AE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Increase by: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5 minutes per day = +25 minutes per week; +15.8 hours for year 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10 minutes per day = +50 minutes per week; +30.6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15 minutes per day = +75 minutes per week; +46.4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30 minutes per day = +150 minutes per week; +92.8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y is it more difficult to manage the Behavior of a Group than an Individual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4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re of them and only one of yo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icult to please everyone at o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iverse motivations, interests, and skill level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er contag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ople do things in the context of groups that they would never do alo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5" descr="http://www.freshtracks.co.uk/images/blog/outnumbered.jpg"/>
          <p:cNvPicPr/>
          <p:nvPr/>
        </p:nvPicPr>
        <p:blipFill>
          <a:blip r:embed="rId1"/>
          <a:stretch/>
        </p:blipFill>
        <p:spPr>
          <a:xfrm>
            <a:off x="5181480" y="2133720"/>
            <a:ext cx="3810240" cy="2904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http://gaygamer.net/images/ymca.jpg"/>
          <p:cNvPicPr/>
          <p:nvPr/>
        </p:nvPicPr>
        <p:blipFill>
          <a:blip r:embed="rId2"/>
          <a:stretch/>
        </p:blipFill>
        <p:spPr>
          <a:xfrm>
            <a:off x="5486400" y="3505320"/>
            <a:ext cx="3333600" cy="3209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http://a6.vox.com/6a00cd97849482f9cc00e398a113a60003-320pi"/>
          <p:cNvPicPr/>
          <p:nvPr/>
        </p:nvPicPr>
        <p:blipFill>
          <a:blip r:embed="rId3"/>
          <a:stretch/>
        </p:blipFill>
        <p:spPr>
          <a:xfrm>
            <a:off x="5410080" y="1752480"/>
            <a:ext cx="2590920" cy="2671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http://www.inquisitr.com/wp-content/nazi-helper.jpg"/>
          <p:cNvPicPr/>
          <p:nvPr/>
        </p:nvPicPr>
        <p:blipFill>
          <a:blip r:embed="rId4"/>
          <a:stretch/>
        </p:blipFill>
        <p:spPr>
          <a:xfrm>
            <a:off x="5791320" y="3200400"/>
            <a:ext cx="3103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16 Proactive Classroom Management Strategie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rganizing a productive classroo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Establishing positive relationships with all students in the clas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sitive greetings at the door to precorrect and establish a positive climat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assroom rules/expectations and procedures are visible and known by every studen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ransitions are managed wel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dependent seatwork is managed and used when need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mmunicating competently w/ studen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each, model, and reinforce prosocial skill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8320" y="1371600"/>
            <a:ext cx="4038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acher proxim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tivation system to reward desirable behavi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oal setting and performance feedbac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isual schedule of classroom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ffective cuing systems to release and regain atten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 to 1 ratio of positive:negative interac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miling and being n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viding numerous opportunities to respond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#1 Proactive Classroom Management Tactic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21333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ganizing a productive classro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ll students can see instruction without having to strain or engage in effor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tudents do not face traffic areas (distractibility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roblem students are not seated next to one anoth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asy to walk without disruptio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eating rows with paired desks instead of tables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Reduces disruptive behavior </a:t>
            </a:r>
            <a:r>
              <a:rPr b="0" lang="en-US" sz="1600" spc="-1" strike="noStrike">
                <a:solidFill>
                  <a:srgbClr val="53548a"/>
                </a:solidFill>
                <a:latin typeface="Georgia"/>
              </a:rPr>
              <a:t>(Whedall et al., 1981)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Increases academic productivity </a:t>
            </a:r>
            <a:r>
              <a:rPr b="0" lang="en-US" sz="1600" spc="-1" strike="noStrike">
                <a:solidFill>
                  <a:srgbClr val="53548a"/>
                </a:solidFill>
                <a:latin typeface="Georgia"/>
              </a:rPr>
              <a:t>(Bennett &amp; Blundell, 1983)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3 Proactive Classroom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ssroom rules and procedu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stablish clear rules/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ules/expectations stated in the positiv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 more than 3 to 5 rules/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view rules/expectations on a weekly basi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inforce rule abiding behavio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sponse cost rule violating behavio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5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ve greetings at the door to establish a positive classroom atmosphere and precorrect problem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 verbal or non-verbal interactions with students as they walk into the roo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ecorrect individual student or all stude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6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aging independent seatwor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dependent seatwork is associated with lower rates of engagement and student achievement than teacher-led activit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lear 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ve backup assignment/activity for those who finish earl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eer-assisted assignment correct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9:16:02Z</dcterms:created>
  <dc:creator>Clay</dc:creator>
  <dc:description/>
  <dc:language>en-US</dc:language>
  <cp:lastModifiedBy>Ken</cp:lastModifiedBy>
  <dcterms:modified xsi:type="dcterms:W3CDTF">2013-10-07T16:01:48Z</dcterms:modified>
  <cp:revision>23</cp:revision>
  <dc:subject/>
  <dc:title>Tier I Positive Behavior Supports for ALL Students</dc:title>
</cp:coreProperties>
</file>