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D08F-3EA4-4EC3-9116-C9C1BC8FC0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CF22-00A2-4357-B7DC-6984124B17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8EE8-3A73-485B-AD1B-AF5DBD1732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indicate that in some classes students spend more time transitioning than engaged in lear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7B6F-A46F-4C76-A018-6371A3FC5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indicate that in some classes students spend more time transitioning than engaged in lear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7074-EF16-4E04-9533-B8FFF4DFA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indicate that in some classes students spend more time transitioning than engaged in lear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B76E-F711-457C-9829-DC03E8FBD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indicate that in some classes students spend more time transitioning than engaged in lear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5F07-C41E-48D6-A40A-FCEF3BC52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indicate that in some classes students spend more time transitioning than engaged in lear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284E-08D3-48D0-8C25-A038CA9EF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indicate that in some classes students spend more time transitioning than engaged in lear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2FA6-A373-40C4-BF52-D37BB1E97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indicate that in some classes students spend more time transitioning than engaged in lear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C5D2-2D4F-4B9C-A23F-BF4DE427E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indicate that in some classes students spend more time transitioning than engaged in lear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EEF9-2623-467A-95C0-FB42A77D0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230F-3304-4838-B50D-706C672E90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BDFF-EEBE-4717-B2A7-4FDB1A63E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046A-90D5-41CA-929A-153E6F9ED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E3F7-742F-48C1-B6C8-D2838CFBD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indicate that in some classes students spend more time transitioning than engaged in lear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E79A-1A59-4ECE-A2CD-95AF5FB98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indicate that in some classes students spend more time transitioning than engaged in lear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6768-B001-4C4D-A5F4-C4E52ABB5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4C9E-99E9-476A-B6E5-409A67742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3361-BFCD-4C85-BB88-479EFE31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36F4-9888-47DE-A852-8BE238C55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C6AE-68E2-4245-9293-1AA604A21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8B1A-D707-42D3-88BD-924C294E3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1E98-DE7C-4AF9-8055-62F3072C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5596-075D-4A47-A9F4-CD523E7C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86EE-127A-46F9-BB9E-8AD348CA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D144-4B1E-4E2E-B000-4EF0F070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C0A36-E2B2-4A11-927D-72E48BAA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E2B2-910F-4E76-86F1-C6B86710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8C78-AABA-4DCF-83C9-6AE411B3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E44E-7305-4590-94A5-156BDA48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7ED8F-AA72-4837-BE12-8D0803ED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49D48-24BA-4FE3-8AA1-F73CC57A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AC88-F6AF-4906-94DC-4A6D7D503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2A4D2-C181-4F08-B103-6EB365257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3A7BDB-9F1B-452F-AED0-AA9DFB683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653CB3-2D60-4903-9101-F47E3A19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848196-F331-43CC-A3C8-4DAF6F99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9898BF-19DB-4E41-847A-21068E68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7A8133-FA41-4B05-901F-1345B643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D87D-6337-4018-85ED-BA1D1AF8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B2E317-4896-4D93-AD0F-54ACBB52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46187D-0418-454B-BF55-FC8C7F57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9C93A7-EBAE-465F-AD2B-6A6230C6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6A9AF9-BF19-4AFA-B0D0-24ED89F9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0F7EBA-4AFE-485A-8554-D6A9106F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619316-4A1E-4962-B430-76F925C3C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2B326D-FB5F-48ED-B5F8-31D52B860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BED77-9838-4017-96C2-71C19F96C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4D1ED-BC8A-4BE3-BC9B-BB72725A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5D6C5-39E1-4E5B-8E4D-88316726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78A7-3E03-4787-88F8-EA922ADB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B39F7-5289-479F-8DB8-367BEE43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F8A73-8590-4F83-AC29-FC3C8D07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50479-BF01-4761-99F6-41011C88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68D17-75B8-48A2-ADB1-0724BCAD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8A6B9-58B9-4991-98D2-7A5B2C89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9A833-CC2A-4DE8-BDE8-8B7EADDF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ACB46-1D79-49C4-8833-5742351F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8D07C-4654-42B5-B755-16565D6DD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45FF6-67AB-4CF2-BCC8-23134DF07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AAAA-7AA9-4D49-B644-A4609B7C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940A-A58B-48B9-8EC3-C07DCF4F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1BF6-C65A-4A93-8826-2CF3AEF5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B6AE-0090-4C31-AF3C-EBD85152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9CD8-7423-4373-BB23-8C6DBE62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BC59-53D7-4CDF-9977-09E3BC3D1BC7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4F50-FA22-4518-9B12-3FE4CD1B2B5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AB4C-1026-4BD0-A6B8-D4CA75AB8D5F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34B7-D929-48A1-8A8F-93447E2E17D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95CF-0535-438D-B21D-8FA90EBE906E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37C7-C245-4055-9329-D85F667F8F2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4D8F-9962-42AB-9A26-4129D14DE8A6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5BC7-FA4D-4948-9375-DC1211EA6F0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itle 1" descr=""/>
          <p:cNvPicPr/>
          <p:nvPr/>
        </p:nvPicPr>
        <p:blipFill>
          <a:blip r:embed="rId1"/>
          <a:stretch/>
        </p:blipFill>
        <p:spPr>
          <a:xfrm>
            <a:off x="755640" y="622440"/>
            <a:ext cx="7785000" cy="621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7 Proactive Classroom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6840" y="2590560"/>
            <a:ext cx="8381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42520" indent="-4474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mmunicating competently w/ studen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96680" indent="-44712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Praise, encouraging feedback, empathy statements and smiling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796680" indent="-44712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Delivering effective praise: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2" marL="1027440" indent="-4474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Contingency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027440" indent="-4474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Specificity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027440" indent="-4474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Sincerity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796680" indent="-44712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Delivering effective reprimands or corrective statements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2" marL="1027440" indent="-4474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Brevity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027440" indent="-4474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Non-emotional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027440" indent="-4474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Non-threatening, soft voice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027440" indent="-4474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Proximity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027440" indent="-4474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027440" indent="-4474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8 Proactive Classroom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25336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each and model behavioral expectations and prosocial skills (SW-PBS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et aside time to teach prosocial skills for success in the classroom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Sharing, listening, waiting turns, question asking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Provide examples/non-examples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atch’em being good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aka – behavior specific praise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9 Proactive Classroom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26100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eacher proxim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Teacher movement throughout the classroom increases academic engagemen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roximity reduces challenging behaviors in students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“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Teach like the floor is on fire”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3" marL="143820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Can’t stand in the same spot for long before your feet get burned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10 Proactive Classroom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otivation Syste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ystem of delivering rewards or contingent access to desired activities or privileges based on performanc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llows students to receive payoff for maintaining on-task behavior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elps students who are not inherently good at or motivated to do academic task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11 Proactive Classroom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24573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oal setting and performance feedbac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stablish a reasonably ambitious behavioral goal for each studen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Deliver periodic feedback to the students based on their progress toward goal attainmen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Reward the individual students and/or entire class for meeting preset goal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12 Proactive Classroom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24573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isual schedule posted of daily activiti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tudents know what to expec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tudents know when to expect which activitie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tudents know how much time will be devoted to each activity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tudents can better self-manage their behavior and tim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13 Proactive Classroom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24573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ffective cueing systems to release and regain contro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Develop signals that release and regain attentio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Avoid shouting or using the light switch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Utilize students themselves as a way to prompt and regain attention from other student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“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If you can hear me raise your hand.”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Clap three times…snap three times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14 Proactive Classroom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20764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79960" indent="-478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5 to 1 ratio of positive to negative interac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851400" indent="-478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ositive interactions consist of words, gestures (thumbs up), or physical contact (pat on the shoulder, high five) that have a positive quality to them and are delivered contingent on desirable behavior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098360" indent="-4780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Helps students learn expected behaviors and teachers build stronger relationships with students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851400" indent="-478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Reprimands or corrective statements work better in the context of a positive, reinforcing environmen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851400" indent="-478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851400" indent="-478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851400" indent="-478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851400" indent="-478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098360" indent="-4780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098360" indent="-4780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#15 Proactive Classroom Management Tactics Smiling and being (Mirror Neurons!)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51920" y="167616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99160" indent="-209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eurons that fire when another person acts; thus, the neuron "mirrors" the behavior of the oth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99160" indent="-209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99160" indent="-209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99160" indent="-209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99160" indent="-209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99160" indent="-209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99160" indent="-209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MPLICATION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38920" indent="-2016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tudents learn via modeling from educators and peer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538920" indent="-2016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tudents will treat us how we treat them (if we’re mean-they’re mean; if we’re nice-they’re nice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1"/>
          <a:stretch/>
        </p:blipFill>
        <p:spPr>
          <a:xfrm>
            <a:off x="3124080" y="2819520"/>
            <a:ext cx="3353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4456"/>
                </a:solidFill>
                <a:latin typeface="Trebuchet MS"/>
              </a:rPr>
              <a:t>Mirror Neurons 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–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the power of smiling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716120"/>
            <a:ext cx="556272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35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andomized trial looking at performance under smiling versus no smiling condition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04440" indent="-2264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Those in the smile group perceived the world in a better light: To them, 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848520" indent="-2012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boring material was more interesting, 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2" marL="848520" indent="-2012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neutral images looked more positive, 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2" marL="848520" indent="-2012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even bland drinks seemed tastier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1" marL="604440" indent="-2264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35520" indent="-235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PLUS, people who smile more live an average of 7 years longer than those who smile les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4" name="Picture 3" descr=""/>
          <p:cNvPicPr/>
          <p:nvPr/>
        </p:nvPicPr>
        <p:blipFill>
          <a:blip r:embed="rId1"/>
          <a:stretch/>
        </p:blipFill>
        <p:spPr>
          <a:xfrm>
            <a:off x="6019920" y="3809880"/>
            <a:ext cx="2781360" cy="27813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2"/>
          <a:stretch/>
        </p:blipFill>
        <p:spPr>
          <a:xfrm>
            <a:off x="6248520" y="114480"/>
            <a:ext cx="24638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he 2 Most Important Variables for Learning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0" y="21034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Time devoted to instruction (TDI)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How much actual time throughout the day is devoted to learning activities?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Direct instruction, small group activities, independent seatwork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Academic engaged time (AET)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The extent to which students are engaged or paying attention to the instruction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Learning does not occur if the student is not paying attention (NO DUH!)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#16 Proactive Classroom Management Tactics </a:t>
            </a:r>
            <a:br>
              <a:rPr sz="3200"/>
            </a:b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Providing numerous opportunities to respond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assrooms in which teachers provide students with numerous opportunities to respond, are associated with higher student engagement which is incompatible with problem behavi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ust pass the dead man’s tes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30720" indent="-23616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f a dead man can be as successful in a classroom as a live student, then there aren’t enough opportunities for students to respond and interact with the learning conten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De-escalation Strategi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09480" y="1676520"/>
            <a:ext cx="83822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o not intimidate the student (get on the student’s level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Your eye’s below the student’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Use a calm voic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ewer words the bette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Non-threatening body postur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Do not stand over the student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Stand to the side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aring statemen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Empathy, perspective-taking, encouragement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Give the student a way ou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Alternative activity, “Not now, later,” “why don’t you take a break and get some water”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voiding shaming, ridiculing, and/or embarrassing the studen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The Numbers: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Increasing TDI or AET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99800"/>
            <a:ext cx="822960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5 hours of possible instruction per day (300 minutes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Engage in efforts to increase TDI and/or AET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Increase by: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5 minutes per day = +25 minutes per week; +15.8 hours for year 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10 minutes per day = +50 minutes per week; +30.6 hours for year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15 minutes per day = +75 minutes per week; +46.4 hours for year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30 minutes per day = +150 minutes per week; +92.8 hours for year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Why is it more difficult to manage the Behavior of a Group than an Individual?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854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ore of them and only one of you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fficult to please everyone at on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Diverse motivations, interests, and skill level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eer contag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eople do things in the context of groups that they would never do alo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8" name="Picture 5" descr="http://www.freshtracks.co.uk/images/blog/outnumbered.jpg"/>
          <p:cNvPicPr/>
          <p:nvPr/>
        </p:nvPicPr>
        <p:blipFill>
          <a:blip r:embed="rId1"/>
          <a:stretch/>
        </p:blipFill>
        <p:spPr>
          <a:xfrm>
            <a:off x="5181480" y="2133720"/>
            <a:ext cx="3810240" cy="2904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http://gaygamer.net/images/ymca.jpg"/>
          <p:cNvPicPr/>
          <p:nvPr/>
        </p:nvPicPr>
        <p:blipFill>
          <a:blip r:embed="rId2"/>
          <a:stretch/>
        </p:blipFill>
        <p:spPr>
          <a:xfrm>
            <a:off x="5486400" y="3505320"/>
            <a:ext cx="3333600" cy="32097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" descr="http://a6.vox.com/6a00cd97849482f9cc00e398a113a60003-320pi"/>
          <p:cNvPicPr/>
          <p:nvPr/>
        </p:nvPicPr>
        <p:blipFill>
          <a:blip r:embed="rId3"/>
          <a:stretch/>
        </p:blipFill>
        <p:spPr>
          <a:xfrm>
            <a:off x="5410080" y="1752480"/>
            <a:ext cx="2590920" cy="26719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http://www.inquisitr.com/wp-content/nazi-helper.jpg"/>
          <p:cNvPicPr/>
          <p:nvPr/>
        </p:nvPicPr>
        <p:blipFill>
          <a:blip r:embed="rId4"/>
          <a:stretch/>
        </p:blipFill>
        <p:spPr>
          <a:xfrm>
            <a:off x="5791320" y="3200400"/>
            <a:ext cx="31035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456"/>
                </a:solidFill>
                <a:latin typeface="Trebuchet MS"/>
              </a:rPr>
              <a:t>16 Proactive Classroom Management Strategies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219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Organizing a productive classroom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Establishing positive relationships with all students in the clas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ositive greetings at the door to precorrect and establish a positive climat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lassroom rules/expectations and procedures are visible and known by every student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ransitions are managed wel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Independent seatwork is managed and used when needed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mmunicating competently w/ student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each, model, and reinforce prosocial skill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48320" y="1371600"/>
            <a:ext cx="403848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11280" indent="-50400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eacher proximit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otivation system to reward desirable behavio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Goal setting and performance feedback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Visual schedule of classroom activiti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ffective cuing systems to release and regain atten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5 to 1 ratio of positive:negative interaction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miling and being nic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roviding numerous opportunities to respond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#1 Proactive Classroom Management Tactic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21333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rganizing a productive classroo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All students can see instruction without having to strain or engage in effort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Students do not face traffic areas (distractibility)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Problem students are not seated next to one another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Easy to walk without disruption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Seating rows with paired desks instead of tables 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Reduces disruptive behavior </a:t>
            </a:r>
            <a:r>
              <a:rPr b="0" lang="en-US" sz="1600" spc="-1" strike="noStrike">
                <a:solidFill>
                  <a:srgbClr val="53548a"/>
                </a:solidFill>
                <a:latin typeface="Georgia"/>
              </a:rPr>
              <a:t>(Whedall et al., 1981)</a:t>
            </a:r>
            <a:endParaRPr b="0" lang="en-US" sz="16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Increases academic productivity </a:t>
            </a:r>
            <a:r>
              <a:rPr b="0" lang="en-US" sz="1600" spc="-1" strike="noStrike">
                <a:solidFill>
                  <a:srgbClr val="53548a"/>
                </a:solidFill>
                <a:latin typeface="Georgia"/>
              </a:rPr>
              <a:t>(Bennett &amp; Blundell, 1983)</a:t>
            </a:r>
            <a:endParaRPr b="0" lang="en-US" sz="16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3 Proactive Classroom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 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assroom rules and procedur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stablish clear rules/expectation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Rules/expectations stated in the positiv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No more than 3 to 5 rules/expectation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Review rules/expectations on a weekly basi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Reinforce rule abiding behavior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Response cost rule violating behavior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5 Proactive Classroom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ositive greetings at the door to establish a positive classroom atmosphere and precorrect problem behavi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ositive verbal or non-verbal interactions with students as they walk into the room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recorrect individual student or all student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a04da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6 Proactive Classroom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naging independent seatwor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ndependent seatwork is associated with lower rates of engagement and student achievement than teacher-led activitie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lear expectation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ave backup assignment/activity for those who finish early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eer-assisted assignment correcting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9:16:02Z</dcterms:created>
  <dc:creator>Clay</dc:creator>
  <dc:description/>
  <dc:language>en-US</dc:language>
  <cp:lastModifiedBy>Ken</cp:lastModifiedBy>
  <dcterms:modified xsi:type="dcterms:W3CDTF">2013-10-07T16:01:48Z</dcterms:modified>
  <cp:revision>23</cp:revision>
  <dc:subject/>
  <dc:title>Tier I Positive Behavior Supports for ALL Students</dc:title>
</cp:coreProperties>
</file>